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02800" cy="1023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7102440" cy="10234440"/>
          </a:xfrm>
          <a:custGeom>
            <a:avLst/>
            <a:gdLst>
              <a:gd name="textAreaLeft" fmla="*/ 360 w 7102440"/>
              <a:gd name="textAreaRight" fmla="*/ 7102080 w 710244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25">
                <a:moveTo>
                  <a:pt x="5" y="0"/>
                </a:moveTo>
                <a:arcTo wR="5" hR="5" stAng="16200000" swAng="-5400000"/>
                <a:lnTo>
                  <a:pt x="0" y="31120"/>
                </a:lnTo>
                <a:arcTo wR="5" hR="5" stAng="10800000" swAng="-5400000"/>
                <a:lnTo>
                  <a:pt x="21595" y="3112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7102440" cy="10234440"/>
          </a:xfrm>
          <a:custGeom>
            <a:avLst/>
            <a:gdLst>
              <a:gd name="textAreaLeft" fmla="*/ 360 w 7102440"/>
              <a:gd name="textAreaRight" fmla="*/ 7102080 w 710244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25">
                <a:moveTo>
                  <a:pt x="5" y="0"/>
                </a:moveTo>
                <a:arcTo wR="5" hR="5" stAng="16200000" swAng="-5400000"/>
                <a:lnTo>
                  <a:pt x="0" y="31120"/>
                </a:lnTo>
                <a:arcTo wR="5" hR="5" stAng="10800000" swAng="-5400000"/>
                <a:lnTo>
                  <a:pt x="21595" y="3112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7102440" cy="10234440"/>
          </a:xfrm>
          <a:custGeom>
            <a:avLst/>
            <a:gdLst>
              <a:gd name="textAreaLeft" fmla="*/ 360 w 7102440"/>
              <a:gd name="textAreaRight" fmla="*/ 7102080 w 710244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25">
                <a:moveTo>
                  <a:pt x="5" y="0"/>
                </a:moveTo>
                <a:arcTo wR="5" hR="5" stAng="16200000" swAng="-5400000"/>
                <a:lnTo>
                  <a:pt x="0" y="31120"/>
                </a:lnTo>
                <a:arcTo wR="5" hR="5" stAng="10800000" swAng="-5400000"/>
                <a:lnTo>
                  <a:pt x="21595" y="3112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7102440" cy="10234440"/>
          </a:xfrm>
          <a:custGeom>
            <a:avLst/>
            <a:gdLst>
              <a:gd name="textAreaLeft" fmla="*/ 360 w 7102440"/>
              <a:gd name="textAreaRight" fmla="*/ 7102080 w 710244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25">
                <a:moveTo>
                  <a:pt x="5" y="0"/>
                </a:moveTo>
                <a:arcTo wR="5" hR="5" stAng="16200000" swAng="-5400000"/>
                <a:lnTo>
                  <a:pt x="0" y="31120"/>
                </a:lnTo>
                <a:arcTo wR="5" hR="5" stAng="10800000" swAng="-5400000"/>
                <a:lnTo>
                  <a:pt x="21595" y="3112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7102440" cy="10234440"/>
          </a:xfrm>
          <a:custGeom>
            <a:avLst/>
            <a:gdLst>
              <a:gd name="textAreaLeft" fmla="*/ 360 w 7102440"/>
              <a:gd name="textAreaRight" fmla="*/ 7102080 w 710244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25">
                <a:moveTo>
                  <a:pt x="5" y="0"/>
                </a:moveTo>
                <a:arcTo wR="5" hR="5" stAng="16200000" swAng="-5400000"/>
                <a:lnTo>
                  <a:pt x="0" y="31120"/>
                </a:lnTo>
                <a:arcTo wR="5" hR="5" stAng="10800000" swAng="-5400000"/>
                <a:lnTo>
                  <a:pt x="21595" y="3112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-13340160" y="-9233280"/>
            <a:ext cx="26682840" cy="2001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709560" y="4862520"/>
            <a:ext cx="5672160" cy="460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219400" y="777960"/>
            <a:ext cx="2663640" cy="383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body"/>
          </p:nvPr>
        </p:nvSpPr>
        <p:spPr>
          <a:xfrm>
            <a:off x="709560" y="4862520"/>
            <a:ext cx="567360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2219400" y="777960"/>
            <a:ext cx="2663640" cy="383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709560" y="4862520"/>
            <a:ext cx="567360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2219400" y="777960"/>
            <a:ext cx="2663640" cy="383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body"/>
          </p:nvPr>
        </p:nvSpPr>
        <p:spPr>
          <a:xfrm>
            <a:off x="709560" y="4862520"/>
            <a:ext cx="567360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2219400" y="777960"/>
            <a:ext cx="2663640" cy="383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body"/>
          </p:nvPr>
        </p:nvSpPr>
        <p:spPr>
          <a:xfrm>
            <a:off x="709560" y="4862520"/>
            <a:ext cx="567360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2219400" y="777960"/>
            <a:ext cx="2663640" cy="383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body"/>
          </p:nvPr>
        </p:nvSpPr>
        <p:spPr>
          <a:xfrm>
            <a:off x="709560" y="4862520"/>
            <a:ext cx="567360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2219400" y="777960"/>
            <a:ext cx="2663640" cy="383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709560" y="4862520"/>
            <a:ext cx="567360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2219400" y="777960"/>
            <a:ext cx="2663640" cy="383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body"/>
          </p:nvPr>
        </p:nvSpPr>
        <p:spPr>
          <a:xfrm>
            <a:off x="709560" y="4862520"/>
            <a:ext cx="567360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2219400" y="777960"/>
            <a:ext cx="2663640" cy="383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body"/>
          </p:nvPr>
        </p:nvSpPr>
        <p:spPr>
          <a:xfrm>
            <a:off x="709560" y="4862520"/>
            <a:ext cx="567360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2219400" y="777960"/>
            <a:ext cx="2663640" cy="383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709560" y="4862520"/>
            <a:ext cx="567360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19400" y="777960"/>
            <a:ext cx="2663640" cy="383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body"/>
          </p:nvPr>
        </p:nvSpPr>
        <p:spPr>
          <a:xfrm>
            <a:off x="709560" y="4862520"/>
            <a:ext cx="567360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2219400" y="777960"/>
            <a:ext cx="2663640" cy="383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body"/>
          </p:nvPr>
        </p:nvSpPr>
        <p:spPr>
          <a:xfrm>
            <a:off x="709560" y="4862520"/>
            <a:ext cx="567360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5DF6-E81B-477E-955A-DF5515531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0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0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4C1B-582D-499D-BCF8-3198BE368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200" y="39636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5139-46CA-4CE4-BD95-EB90528E8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67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67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5960" y="1600200"/>
            <a:ext cx="26467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67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6760" y="3963600"/>
            <a:ext cx="26467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5960" y="3963600"/>
            <a:ext cx="26467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918B-0DAF-4113-9B43-82D1E6AB8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84A4D-70DF-4D73-8920-DEC2E9B13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02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522BC-A439-4A7E-951C-58CB01562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02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C4BC6-864F-4E33-B61F-7089B29BE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2A9C8-A1A5-46C6-8DD9-39D016B63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36FEB-9109-44D3-BDF0-45D6D5A5F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024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19FE6-0B6A-4290-96AB-68E5BFC77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E9542-C769-4F3F-B94F-600A379BF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02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1843-26DE-42BD-A8EC-553F07303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9200" y="39636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28335-7914-4C01-98B6-B6FF0246B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0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4FE3D-0202-4627-B726-606C8C192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0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0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18FC4-7BEF-4AB0-BA1E-2DBC49AFC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9200" y="39636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657E3-BDDA-475B-A7F5-79BBD7EEB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67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67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5960" y="1600200"/>
            <a:ext cx="26467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67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6760" y="3963600"/>
            <a:ext cx="26467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5960" y="3963600"/>
            <a:ext cx="26467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FF024-4A01-4776-9AE4-68D3D665E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02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DFEB-2388-47A5-A54D-221D3D63D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98C1-7270-4F8E-B4C4-9036B5DFB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7415-5B73-4919-99E3-B7A36557B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024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9EB3-32D0-4E62-9569-33BF2FB20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3B10-EE1A-446E-9C9C-5548702AA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200" y="39636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C60B-9315-4691-A6D4-305147CE2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0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F589-A788-44FF-B144-0B5483662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55761F7-773D-45A8-B6B7-CC594CBF36B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02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marL="299880" indent="-299880">
              <a:lnSpc>
                <a:spcPct val="12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9880" indent="-248400">
              <a:lnSpc>
                <a:spcPct val="12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lnSpc>
                <a:spcPct val="12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40000" indent="-205560">
              <a:lnSpc>
                <a:spcPct val="12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51480" indent="-205560">
              <a:lnSpc>
                <a:spcPct val="12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51480" indent="-205560">
              <a:lnSpc>
                <a:spcPct val="12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51480" indent="-205560">
              <a:lnSpc>
                <a:spcPct val="12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245280"/>
            <a:ext cx="21240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3720" y="6245280"/>
            <a:ext cx="288612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5280"/>
            <a:ext cx="212436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BA4DAA-9728-4DB5-8A42-3CC7E0FE4E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hyperlink" Target="file:///por_que.html" TargetMode="External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hyperlink" Target="file:///por_que.html" TargetMode="External"/><Relationship Id="rId5" Type="http://schemas.openxmlformats.org/officeDocument/2006/relationships/image" Target="../media/image6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5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hyperlink" Target="file:///por_que.html" TargetMode="External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5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5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7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6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slideLayout" Target="../slideLayouts/slideLayout15.xml"/><Relationship Id="rId1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hyperlink" Target="file:///por_que.html" TargetMode="External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hyperlink" Target="file:///por_que.html" TargetMode="External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5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hyperlink" Target="file:///por_que.html" TargetMode="External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5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hyperlink" Target="file:///por_que.html" TargetMode="External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5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hyperlink" Target="file:///por_que.html" TargetMode="External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5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hyperlink" Target="file:///por_que.html" TargetMode="External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5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hyperlink" Target="file:///por_que.html" TargetMode="External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5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hyperlink" Target="file:///por_que.html" TargetMode="External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5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45960" y="216000"/>
            <a:ext cx="287280" cy="86508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865080"/>
              <a:gd name="textAreaBottom" fmla="*/ 851040 h 865080"/>
            </a:gdLst>
            <a:ahLst/>
            <a:rect l="textAreaLeft" t="textAreaTop" r="textAreaRight" b="textAreaBottom"/>
            <a:pathLst>
              <a:path w="21600" h="64989">
                <a:moveTo>
                  <a:pt x="3600" y="0"/>
                </a:moveTo>
                <a:arcTo wR="3600" hR="3600" stAng="16200000" swAng="-5400000"/>
                <a:lnTo>
                  <a:pt x="0" y="61389"/>
                </a:lnTo>
                <a:arcTo wR="3600" hR="3600" stAng="10800000" swAng="-5400000"/>
                <a:lnTo>
                  <a:pt x="18000" y="649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340000" y="1413000"/>
            <a:ext cx="6118200" cy="1655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lin ang="10800000"/>
          </a:gra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340000" y="4510080"/>
            <a:ext cx="6118200" cy="1655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lin ang="10800000"/>
          </a:gra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309840" y="1860480"/>
            <a:ext cx="493416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1" strike="noStrike">
                <a:ln w="12600">
                  <a:solidFill>
                    <a:srgbClr val="ff9900"/>
                  </a:solidFill>
                  <a:miter/>
                </a:ln>
                <a:solidFill>
                  <a:srgbClr val="ff99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¿ Por qué será... ?</a:t>
            </a:r>
            <a:endParaRPr b="0" lang="en-US" sz="4000" spc="1" strike="noStrike">
              <a:ln w="12600">
                <a:solidFill>
                  <a:srgbClr val="ff9900"/>
                </a:solidFill>
                <a:miter/>
              </a:ln>
              <a:solidFill>
                <a:srgbClr val="ff99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56000" y="5029200"/>
            <a:ext cx="493380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1" strike="noStrike">
                <a:ln w="12600">
                  <a:solidFill>
                    <a:srgbClr val="833c88"/>
                  </a:solidFill>
                  <a:miter/>
                </a:ln>
                <a:solidFill>
                  <a:srgbClr val="c17cc6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¿ Será por ... ?</a:t>
            </a:r>
            <a:endParaRPr b="0" lang="en-US" sz="4000" spc="1" strike="noStrike">
              <a:ln w="12600">
                <a:solidFill>
                  <a:srgbClr val="833c88"/>
                </a:solidFill>
                <a:miter/>
              </a:ln>
              <a:solidFill>
                <a:srgbClr val="c17cc6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633840" y="3284640"/>
            <a:ext cx="48258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5840">
                  <a:solidFill>
                    <a:srgbClr val="ff99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ff9900"/>
                    </a:gs>
                    <a:gs pos="100000">
                      <a:srgbClr val="ffffff"/>
                    </a:gs>
                  </a:gsLst>
                  <a:lin ang="135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Vll Parte</a:t>
            </a:r>
            <a:endParaRPr b="0" lang="en-US" sz="1800" spc="1" strike="noStrike">
              <a:ln w="15840">
                <a:solidFill>
                  <a:srgbClr val="ff99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ff9900"/>
                  </a:gs>
                  <a:gs pos="100000">
                    <a:srgbClr val="ffffff"/>
                  </a:gs>
                </a:gsLst>
                <a:lin ang="1350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042920" y="333360"/>
            <a:ext cx="777708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9900">
                        <a:alpha val="80392"/>
                      </a:srgbClr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9999ff">
                      <a:alpha val="50000"/>
                    </a:srgbClr>
                  </a:outerShdw>
                </a:effectLst>
                <a:latin typeface="Arial Black"/>
              </a:rPr>
              <a:t>¿ Por qué será...?</a:t>
            </a:r>
            <a:endParaRPr b="0" lang="en-US" sz="40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9900">
                      <a:alpha val="80392"/>
                    </a:srgbClr>
                  </a:gs>
                </a:gsLst>
                <a:lin ang="5400000"/>
              </a:gradFill>
              <a:effectLst>
                <a:outerShdw dist="107932" dir="2700000" blurRad="0" rotWithShape="0">
                  <a:srgbClr val="9999ff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515880" y="1343160"/>
            <a:ext cx="2040120" cy="50385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406440" y="838080"/>
            <a:ext cx="190440" cy="1908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395280" y="58896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5280" y="266760"/>
            <a:ext cx="190440" cy="19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9 0 0.125 0.07467 0.125 0.16667 C 0.125 0.25867 0.069 0.33333 0 0.33333 C -0.069 0.33333 -0.125 0.25867 -0.125 0.16667 C -0.125 0.07467 -0.069 0 0 0 Z">
                                      <p:cBhvr>
                                        <p:cTn id="6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4000"/>
                            </p:stCondLst>
                            <p:childTnLst>
                              <p:par>
                                <p:cTn id="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0"/>
                            </p:stCondLst>
                            <p:childTnLst>
                              <p:par>
                                <p:cTn id="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250920" y="0"/>
            <a:ext cx="2340000" cy="6483240"/>
          </a:xfrm>
          <a:custGeom>
            <a:avLst/>
            <a:gdLst>
              <a:gd name="textAreaLeft" fmla="*/ 360 w 2340000"/>
              <a:gd name="textAreaRight" fmla="*/ 2339640 w 2340000"/>
              <a:gd name="textAreaTop" fmla="*/ 360 h 6483240"/>
              <a:gd name="textAreaBottom" fmla="*/ 6482880 h 6483240"/>
            </a:gdLst>
            <a:ahLst/>
            <a:rect l="textAreaLeft" t="textAreaTop" r="textAreaRight" b="textAreaBottom"/>
            <a:pathLst>
              <a:path w="21600" h="59839">
                <a:moveTo>
                  <a:pt x="14" y="0"/>
                </a:moveTo>
                <a:arcTo wR="14" hR="14" stAng="16200000" swAng="-5400000"/>
                <a:lnTo>
                  <a:pt x="0" y="59825"/>
                </a:lnTo>
                <a:arcTo wR="14" hR="14" stAng="10800000" swAng="-5400000"/>
                <a:lnTo>
                  <a:pt x="21586" y="59839"/>
                </a:lnTo>
                <a:arcTo wR="14" hR="14" stAng="5400000" swAng="-5400000"/>
                <a:lnTo>
                  <a:pt x="21600" y="14"/>
                </a:lnTo>
                <a:arcTo wR="14" hR="14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979640" y="1376280"/>
            <a:ext cx="6478560" cy="23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lin ang="10800000"/>
          </a:gra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¿Por qué me estará costando tanto adaptarme a mi nuevo estado “No laboral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979640" y="3933720"/>
            <a:ext cx="6478560" cy="23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lin ang="10800000"/>
          </a:gra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833c88"/>
                </a:solidFill>
                <a:latin typeface="Arial"/>
              </a:rPr>
              <a:t>¿ Será que los burros de carga no la soltamos, hasta reventa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833c88"/>
                </a:solidFill>
                <a:latin typeface="Arial"/>
              </a:rPr>
              <a:t>¿Tendré el síntoma de Estocolmo? ¡¡ Mecachis en la mar 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619280" y="260280"/>
            <a:ext cx="712944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9900">
                        <a:alpha val="80392"/>
                      </a:srgbClr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9999ff">
                      <a:alpha val="50000"/>
                    </a:srgbClr>
                  </a:outerShdw>
                </a:effectLst>
                <a:latin typeface="Arial Black"/>
              </a:rPr>
              <a:t>¿ 7º -Por qué será...?</a:t>
            </a:r>
            <a:endParaRPr b="0" lang="en-US" sz="40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9900">
                      <a:alpha val="80392"/>
                    </a:srgbClr>
                  </a:gs>
                </a:gsLst>
                <a:lin ang="5400000"/>
              </a:gradFill>
              <a:effectLst>
                <a:outerShdw dist="107932" dir="2700000" blurRad="0" rotWithShape="0">
                  <a:srgbClr val="9999ff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6" name=""/>
          <p:cNvSpPr/>
          <p:nvPr/>
        </p:nvSpPr>
        <p:spPr>
          <a:xfrm>
            <a:off x="345960" y="216000"/>
            <a:ext cx="287280" cy="86508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865080"/>
              <a:gd name="textAreaBottom" fmla="*/ 851040 h 865080"/>
            </a:gdLst>
            <a:ahLst/>
            <a:rect l="textAreaLeft" t="textAreaTop" r="textAreaRight" b="textAreaBottom"/>
            <a:pathLst>
              <a:path w="21600" h="64989">
                <a:moveTo>
                  <a:pt x="3600" y="0"/>
                </a:moveTo>
                <a:arcTo wR="3600" hR="3600" stAng="16200000" swAng="-5400000"/>
                <a:lnTo>
                  <a:pt x="0" y="61389"/>
                </a:lnTo>
                <a:arcTo wR="3600" hR="3600" stAng="10800000" swAng="-5400000"/>
                <a:lnTo>
                  <a:pt x="18000" y="649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406440" y="838080"/>
            <a:ext cx="190440" cy="19080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395280" y="58896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95280" y="26676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6"/>
          <a:stretch/>
        </p:blipFill>
        <p:spPr>
          <a:xfrm>
            <a:off x="515880" y="1343160"/>
            <a:ext cx="2040120" cy="5038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250920" y="0"/>
            <a:ext cx="2340000" cy="6483240"/>
          </a:xfrm>
          <a:custGeom>
            <a:avLst/>
            <a:gdLst>
              <a:gd name="textAreaLeft" fmla="*/ 360 w 2340000"/>
              <a:gd name="textAreaRight" fmla="*/ 2339640 w 2340000"/>
              <a:gd name="textAreaTop" fmla="*/ 360 h 6483240"/>
              <a:gd name="textAreaBottom" fmla="*/ 6482880 h 6483240"/>
            </a:gdLst>
            <a:ahLst/>
            <a:rect l="textAreaLeft" t="textAreaTop" r="textAreaRight" b="textAreaBottom"/>
            <a:pathLst>
              <a:path w="21600" h="59839">
                <a:moveTo>
                  <a:pt x="14" y="0"/>
                </a:moveTo>
                <a:arcTo wR="14" hR="14" stAng="16200000" swAng="-5400000"/>
                <a:lnTo>
                  <a:pt x="0" y="59825"/>
                </a:lnTo>
                <a:arcTo wR="14" hR="14" stAng="10800000" swAng="-5400000"/>
                <a:lnTo>
                  <a:pt x="21586" y="59839"/>
                </a:lnTo>
                <a:arcTo wR="14" hR="14" stAng="5400000" swAng="-5400000"/>
                <a:lnTo>
                  <a:pt x="21600" y="14"/>
                </a:lnTo>
                <a:arcTo wR="14" hR="14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979640" y="1376280"/>
            <a:ext cx="6478560" cy="23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lin ang="10800000"/>
          </a:gra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¿Por qué antes. si fijaba mucho mi vista en alguna cosa, al final me abstraía y mi mente se iba, a los temas pendientes de mi vida laboral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979640" y="3933720"/>
            <a:ext cx="6478560" cy="23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lin ang="10800000"/>
          </a:gra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833c88"/>
                </a:solidFill>
                <a:latin typeface="Arial"/>
              </a:rPr>
              <a:t>¿Será que era un grandísimo giripollas menta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833c88"/>
                </a:solidFill>
                <a:latin typeface="Arial"/>
              </a:rPr>
              <a:t>¡Ahora veo vida en las flores, paisajes en la música y muchas cosas mas, pero ninguna laboral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515880" y="1343160"/>
            <a:ext cx="2040120" cy="503856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 txBox="1"/>
          <p:nvPr/>
        </p:nvSpPr>
        <p:spPr>
          <a:xfrm>
            <a:off x="1619280" y="260280"/>
            <a:ext cx="712944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9900">
                        <a:alpha val="80392"/>
                      </a:srgbClr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9999ff">
                      <a:alpha val="50000"/>
                    </a:srgbClr>
                  </a:outerShdw>
                </a:effectLst>
                <a:latin typeface="Arial Black"/>
              </a:rPr>
              <a:t>¿ 8º -Por qué será...?</a:t>
            </a:r>
            <a:endParaRPr b="0" lang="en-US" sz="40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9900">
                      <a:alpha val="80392"/>
                    </a:srgbClr>
                  </a:gs>
                </a:gsLst>
                <a:lin ang="5400000"/>
              </a:gradFill>
              <a:effectLst>
                <a:outerShdw dist="107932" dir="2700000" blurRad="0" rotWithShape="0">
                  <a:srgbClr val="9999ff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86" name=""/>
          <p:cNvSpPr/>
          <p:nvPr/>
        </p:nvSpPr>
        <p:spPr>
          <a:xfrm>
            <a:off x="345960" y="216000"/>
            <a:ext cx="287280" cy="86508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865080"/>
              <a:gd name="textAreaBottom" fmla="*/ 851040 h 865080"/>
            </a:gdLst>
            <a:ahLst/>
            <a:rect l="textAreaLeft" t="textAreaTop" r="textAreaRight" b="textAreaBottom"/>
            <a:pathLst>
              <a:path w="21600" h="64989">
                <a:moveTo>
                  <a:pt x="3600" y="0"/>
                </a:moveTo>
                <a:arcTo wR="3600" hR="3600" stAng="16200000" swAng="-5400000"/>
                <a:lnTo>
                  <a:pt x="0" y="61389"/>
                </a:lnTo>
                <a:arcTo wR="3600" hR="3600" stAng="10800000" swAng="-5400000"/>
                <a:lnTo>
                  <a:pt x="18000" y="649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406440" y="838080"/>
            <a:ext cx="190440" cy="1908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395280" y="58896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5280" y="266760"/>
            <a:ext cx="190440" cy="190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250920" y="0"/>
            <a:ext cx="2340000" cy="6483240"/>
          </a:xfrm>
          <a:custGeom>
            <a:avLst/>
            <a:gdLst>
              <a:gd name="textAreaLeft" fmla="*/ 360 w 2340000"/>
              <a:gd name="textAreaRight" fmla="*/ 2339640 w 2340000"/>
              <a:gd name="textAreaTop" fmla="*/ 360 h 6483240"/>
              <a:gd name="textAreaBottom" fmla="*/ 6482880 h 6483240"/>
            </a:gdLst>
            <a:ahLst/>
            <a:rect l="textAreaLeft" t="textAreaTop" r="textAreaRight" b="textAreaBottom"/>
            <a:pathLst>
              <a:path w="21600" h="59839">
                <a:moveTo>
                  <a:pt x="14" y="0"/>
                </a:moveTo>
                <a:arcTo wR="14" hR="14" stAng="16200000" swAng="-5400000"/>
                <a:lnTo>
                  <a:pt x="0" y="59825"/>
                </a:lnTo>
                <a:arcTo wR="14" hR="14" stAng="10800000" swAng="-5400000"/>
                <a:lnTo>
                  <a:pt x="21586" y="59839"/>
                </a:lnTo>
                <a:arcTo wR="14" hR="14" stAng="5400000" swAng="-5400000"/>
                <a:lnTo>
                  <a:pt x="21600" y="14"/>
                </a:lnTo>
                <a:arcTo wR="14" hR="14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979640" y="1376280"/>
            <a:ext cx="6478560" cy="4932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¿ Por qué será que me encuentro reflejado en tantos “Por qué …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833c88"/>
                </a:solidFill>
                <a:latin typeface="Arial"/>
              </a:rPr>
              <a:t>¿ Será que soy humano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833c88"/>
                </a:solidFill>
                <a:latin typeface="Arial"/>
              </a:rPr>
              <a:t>¿Será que los demás no me entienden 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833c88"/>
                </a:solidFill>
                <a:latin typeface="Arial"/>
              </a:rPr>
              <a:t>¿Será que soy un cabrito 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000" spc="-1" strike="noStrike">
                <a:solidFill>
                  <a:srgbClr val="833c88"/>
                </a:solidFill>
                <a:latin typeface="Arial"/>
              </a:rPr>
              <a:t>¡¡ Coño 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833c88"/>
                </a:solidFill>
                <a:latin typeface="Arial"/>
              </a:rPr>
              <a:t>¿ Y Por qué me quito años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515880" y="1343160"/>
            <a:ext cx="2040120" cy="503856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 txBox="1"/>
          <p:nvPr/>
        </p:nvSpPr>
        <p:spPr>
          <a:xfrm>
            <a:off x="1619280" y="276120"/>
            <a:ext cx="712944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9900">
                        <a:alpha val="80392"/>
                      </a:srgbClr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9999ff">
                      <a:alpha val="50000"/>
                    </a:srgbClr>
                  </a:outerShdw>
                </a:effectLst>
                <a:latin typeface="Arial Black"/>
              </a:rPr>
              <a:t>¿ Por qué será...?</a:t>
            </a:r>
            <a:endParaRPr b="0" lang="en-US" sz="40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9900">
                      <a:alpha val="80392"/>
                    </a:srgbClr>
                  </a:gs>
                </a:gsLst>
                <a:lin ang="5400000"/>
              </a:gradFill>
              <a:effectLst>
                <a:outerShdw dist="107932" dir="2700000" blurRad="0" rotWithShape="0">
                  <a:srgbClr val="9999ff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94" name=""/>
          <p:cNvSpPr/>
          <p:nvPr/>
        </p:nvSpPr>
        <p:spPr>
          <a:xfrm>
            <a:off x="345960" y="216000"/>
            <a:ext cx="287280" cy="86508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865080"/>
              <a:gd name="textAreaBottom" fmla="*/ 851040 h 865080"/>
            </a:gdLst>
            <a:ahLst/>
            <a:rect l="textAreaLeft" t="textAreaTop" r="textAreaRight" b="textAreaBottom"/>
            <a:pathLst>
              <a:path w="21600" h="64989">
                <a:moveTo>
                  <a:pt x="3600" y="0"/>
                </a:moveTo>
                <a:arcTo wR="3600" hR="3600" stAng="16200000" swAng="-5400000"/>
                <a:lnTo>
                  <a:pt x="0" y="61389"/>
                </a:lnTo>
                <a:arcTo wR="3600" hR="3600" stAng="10800000" swAng="-5400000"/>
                <a:lnTo>
                  <a:pt x="18000" y="649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406440" y="838080"/>
            <a:ext cx="190440" cy="1908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395280" y="58896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395280" y="266760"/>
            <a:ext cx="190440" cy="190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904120" y="5791680"/>
            <a:ext cx="1910520" cy="390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Anterior álb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57120" y="200160"/>
            <a:ext cx="287280" cy="86508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865080"/>
              <a:gd name="textAreaBottom" fmla="*/ 851040 h 865080"/>
            </a:gdLst>
            <a:ahLst/>
            <a:rect l="textAreaLeft" t="textAreaTop" r="textAreaRight" b="textAreaBottom"/>
            <a:pathLst>
              <a:path w="21600" h="64989">
                <a:moveTo>
                  <a:pt x="3600" y="0"/>
                </a:moveTo>
                <a:arcTo wR="3600" hR="3600" stAng="16200000" swAng="-5400000"/>
                <a:lnTo>
                  <a:pt x="0" y="61389"/>
                </a:lnTo>
                <a:arcTo wR="3600" hR="3600" stAng="10800000" swAng="-5400000"/>
                <a:lnTo>
                  <a:pt x="18000" y="649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50920" y="620640"/>
            <a:ext cx="1946160" cy="5394240"/>
          </a:xfrm>
          <a:custGeom>
            <a:avLst/>
            <a:gdLst>
              <a:gd name="textAreaLeft" fmla="*/ 360 w 1946160"/>
              <a:gd name="textAreaRight" fmla="*/ 1945800 w 1946160"/>
              <a:gd name="textAreaTop" fmla="*/ 360 h 5394240"/>
              <a:gd name="textAreaBottom" fmla="*/ 5393880 h 5394240"/>
            </a:gdLst>
            <a:ahLst/>
            <a:rect l="textAreaLeft" t="textAreaTop" r="textAreaRight" b="textAreaBottom"/>
            <a:pathLst>
              <a:path w="21600" h="59862">
                <a:moveTo>
                  <a:pt x="17" y="0"/>
                </a:moveTo>
                <a:arcTo wR="17" hR="17" stAng="16200000" swAng="-5400000"/>
                <a:lnTo>
                  <a:pt x="0" y="59845"/>
                </a:lnTo>
                <a:arcTo wR="17" hR="17" stAng="10800000" swAng="-5400000"/>
                <a:lnTo>
                  <a:pt x="21583" y="59862"/>
                </a:lnTo>
                <a:arcTo wR="17" hR="17" stAng="5400000" swAng="-5400000"/>
                <a:lnTo>
                  <a:pt x="21600" y="17"/>
                </a:lnTo>
                <a:arcTo wR="17" hR="17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08000" y="2924280"/>
            <a:ext cx="6624720" cy="22334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47662"/>
              </a:avLst>
            </a:prstTxWarp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¡ Jodo cuantas cosas desconozco !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02" name=""/>
          <p:cNvSpPr/>
          <p:nvPr/>
        </p:nvSpPr>
        <p:spPr>
          <a:xfrm>
            <a:off x="250920" y="0"/>
            <a:ext cx="2340000" cy="6483240"/>
          </a:xfrm>
          <a:custGeom>
            <a:avLst/>
            <a:gdLst>
              <a:gd name="textAreaLeft" fmla="*/ 360 w 2340000"/>
              <a:gd name="textAreaRight" fmla="*/ 2339640 w 2340000"/>
              <a:gd name="textAreaTop" fmla="*/ 360 h 6483240"/>
              <a:gd name="textAreaBottom" fmla="*/ 6482880 h 6483240"/>
            </a:gdLst>
            <a:ahLst/>
            <a:rect l="textAreaLeft" t="textAreaTop" r="textAreaRight" b="textAreaBottom"/>
            <a:pathLst>
              <a:path w="21600" h="59839">
                <a:moveTo>
                  <a:pt x="14" y="0"/>
                </a:moveTo>
                <a:arcTo wR="14" hR="14" stAng="16200000" swAng="-5400000"/>
                <a:lnTo>
                  <a:pt x="0" y="59825"/>
                </a:lnTo>
                <a:arcTo wR="14" hR="14" stAng="10800000" swAng="-5400000"/>
                <a:lnTo>
                  <a:pt x="21586" y="59839"/>
                </a:lnTo>
                <a:arcTo wR="14" hR="14" stAng="5400000" swAng="-5400000"/>
                <a:lnTo>
                  <a:pt x="21600" y="14"/>
                </a:lnTo>
                <a:arcTo wR="14" hR="14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515880" y="1343160"/>
            <a:ext cx="2040120" cy="503856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>
            <a:off x="3419640" y="4869000"/>
            <a:ext cx="3809880" cy="3427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>
            <a:hlinkClick r:id="" action="ppaction://hlinkshowjump?jump=firstslide"/>
          </p:cNvPr>
          <p:cNvPicPr/>
          <p:nvPr/>
        </p:nvPicPr>
        <p:blipFill>
          <a:blip r:embed="rId4"/>
          <a:stretch/>
        </p:blipFill>
        <p:spPr>
          <a:xfrm>
            <a:off x="395280" y="84132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395280" y="58896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3203640" y="501336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>
            <a:hlinkClick r:id="" action="ppaction://hlinkshowjump?jump=endshow"/>
          </p:cNvPr>
          <p:cNvPicPr/>
          <p:nvPr/>
        </p:nvPicPr>
        <p:blipFill>
          <a:blip r:embed="rId7"/>
          <a:stretch/>
        </p:blipFill>
        <p:spPr>
          <a:xfrm>
            <a:off x="8675640" y="189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8"/>
          <a:stretch/>
        </p:blipFill>
        <p:spPr>
          <a:xfrm>
            <a:off x="395280" y="266760"/>
            <a:ext cx="190440" cy="19044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 txBox="1"/>
          <p:nvPr/>
        </p:nvSpPr>
        <p:spPr>
          <a:xfrm>
            <a:off x="1332000" y="276120"/>
            <a:ext cx="712944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9900">
                        <a:alpha val="80392"/>
                      </a:srgbClr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9999ff">
                      <a:alpha val="50000"/>
                    </a:srgbClr>
                  </a:outerShdw>
                </a:effectLst>
                <a:latin typeface="Arial Black"/>
              </a:rPr>
              <a:t>¿ Por qué será...?</a:t>
            </a:r>
            <a:endParaRPr b="0" lang="en-US" sz="40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9900">
                      <a:alpha val="80392"/>
                    </a:srgbClr>
                  </a:gs>
                </a:gsLst>
                <a:lin ang="5400000"/>
              </a:gradFill>
              <a:effectLst>
                <a:outerShdw dist="107932" dir="2700000" blurRad="0" rotWithShape="0">
                  <a:srgbClr val="9999ff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211" name="" descr="">
            <a:hlinkClick r:id="" action="ppaction://hlinkshowjump?jump=endshow"/>
          </p:cNvPr>
          <p:cNvPicPr/>
          <p:nvPr/>
        </p:nvPicPr>
        <p:blipFill>
          <a:blip r:embed="rId9"/>
          <a:stretch/>
        </p:blipFill>
        <p:spPr>
          <a:xfrm>
            <a:off x="8664480" y="630864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10"/>
          <a:stretch/>
        </p:blipFill>
        <p:spPr>
          <a:xfrm>
            <a:off x="3056040" y="5888160"/>
            <a:ext cx="190440" cy="1904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5436720" y="5793480"/>
            <a:ext cx="2044080" cy="390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Siguiente álbum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1"/>
          <a:stretch/>
        </p:blipFill>
        <p:spPr>
          <a:xfrm>
            <a:off x="7093080" y="5877000"/>
            <a:ext cx="190440" cy="190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3000"/>
                            </p:stCondLst>
                            <p:childTnLst>
                              <p:par>
                                <p:cTn id="20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4000"/>
                            </p:stCondLst>
                            <p:childTnLst>
                              <p:par>
                                <p:cTn id="20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6000"/>
                            </p:stCondLst>
                            <p:childTnLst>
                              <p:par>
                                <p:cTn id="21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45960" y="216000"/>
            <a:ext cx="287280" cy="86508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865080"/>
              <a:gd name="textAreaBottom" fmla="*/ 851040 h 865080"/>
            </a:gdLst>
            <a:ahLst/>
            <a:rect l="textAreaLeft" t="textAreaTop" r="textAreaRight" b="textAreaBottom"/>
            <a:pathLst>
              <a:path w="21600" h="64989">
                <a:moveTo>
                  <a:pt x="3600" y="0"/>
                </a:moveTo>
                <a:arcTo wR="3600" hR="3600" stAng="16200000" swAng="-5400000"/>
                <a:lnTo>
                  <a:pt x="0" y="61389"/>
                </a:lnTo>
                <a:arcTo wR="3600" hR="3600" stAng="10800000" swAng="-5400000"/>
                <a:lnTo>
                  <a:pt x="18000" y="649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338560" y="1341360"/>
            <a:ext cx="6337080" cy="4897440"/>
          </a:xfrm>
          <a:prstGeom prst="roundRect">
            <a:avLst>
              <a:gd name="adj" fmla="val 761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3200" spc="-1" strike="noStrike">
                <a:solidFill>
                  <a:srgbClr val="9900cc"/>
                </a:solidFill>
                <a:latin typeface="Arial"/>
              </a:rPr>
              <a:t>Todo lo que a continuación  intento exponer, es fruto de mi experiencia. Acumulada, en 61 años de vida natural, con 45 de labor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000" spc="-1" strike="noStrike">
                <a:solidFill>
                  <a:srgbClr val="ff9900"/>
                </a:solidFill>
                <a:latin typeface="Arial"/>
              </a:rPr>
              <a:t>                    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J. M. Lator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15880" y="1343160"/>
            <a:ext cx="2040120" cy="50385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755640" y="260280"/>
            <a:ext cx="777708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9900">
                        <a:alpha val="80392"/>
                      </a:srgbClr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9999ff">
                      <a:alpha val="50000"/>
                    </a:srgbClr>
                  </a:outerShdw>
                </a:effectLst>
                <a:latin typeface="Arial Black"/>
              </a:rPr>
              <a:t>¿ Por qué será...?</a:t>
            </a:r>
            <a:endParaRPr b="0" lang="en-US" sz="40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9900">
                      <a:alpha val="80392"/>
                    </a:srgbClr>
                  </a:gs>
                </a:gsLst>
                <a:lin ang="5400000"/>
              </a:gradFill>
              <a:effectLst>
                <a:outerShdw dist="107932" dir="2700000" blurRad="0" rotWithShape="0">
                  <a:srgbClr val="9999ff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2268360" y="4437000"/>
            <a:ext cx="6121440" cy="1440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48574"/>
              </a:avLst>
            </a:prstTxWarp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¿O será mi imaginación ?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06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406440" y="838080"/>
            <a:ext cx="190440" cy="1908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395280" y="58896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5280" y="266760"/>
            <a:ext cx="190440" cy="19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50920" y="0"/>
            <a:ext cx="2340000" cy="6483240"/>
          </a:xfrm>
          <a:custGeom>
            <a:avLst/>
            <a:gdLst>
              <a:gd name="textAreaLeft" fmla="*/ 360 w 2340000"/>
              <a:gd name="textAreaRight" fmla="*/ 2339640 w 2340000"/>
              <a:gd name="textAreaTop" fmla="*/ 360 h 6483240"/>
              <a:gd name="textAreaBottom" fmla="*/ 6482880 h 6483240"/>
            </a:gdLst>
            <a:ahLst/>
            <a:rect l="textAreaLeft" t="textAreaTop" r="textAreaRight" b="textAreaBottom"/>
            <a:pathLst>
              <a:path w="21600" h="59839">
                <a:moveTo>
                  <a:pt x="14" y="0"/>
                </a:moveTo>
                <a:arcTo wR="14" hR="14" stAng="16200000" swAng="-5400000"/>
                <a:lnTo>
                  <a:pt x="0" y="59825"/>
                </a:lnTo>
                <a:arcTo wR="14" hR="14" stAng="10800000" swAng="-5400000"/>
                <a:lnTo>
                  <a:pt x="21586" y="59839"/>
                </a:lnTo>
                <a:arcTo wR="14" hR="14" stAng="5400000" swAng="-5400000"/>
                <a:lnTo>
                  <a:pt x="21600" y="14"/>
                </a:lnTo>
                <a:arcTo wR="14" hR="14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979640" y="1376280"/>
            <a:ext cx="6478560" cy="23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lin ang="10800000"/>
          </a:gra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¿ Por qué fijándote en el muñeco de la izquierda, compruebas que a pesar de ser de oro, tiene una proyección morada y una sombra, tan negra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79640" y="3933720"/>
            <a:ext cx="6478560" cy="23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lin ang="10800000"/>
          </a:gra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833c88"/>
                </a:solidFill>
                <a:latin typeface="Arial"/>
              </a:rPr>
              <a:t>¿ Será que es un misterio de la física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833c88"/>
                </a:solidFill>
                <a:latin typeface="Arial"/>
              </a:rPr>
              <a:t>¿ Será que algunos nacemos así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833c88"/>
                </a:solidFill>
                <a:latin typeface="Arial"/>
              </a:rPr>
              <a:t>¿Será solo un efecto óptico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515880" y="1343160"/>
            <a:ext cx="2040120" cy="50385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1619280" y="260280"/>
            <a:ext cx="712944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9900">
                        <a:alpha val="80392"/>
                      </a:srgbClr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9999ff">
                      <a:alpha val="50000"/>
                    </a:srgbClr>
                  </a:outerShdw>
                </a:effectLst>
                <a:latin typeface="Arial Black"/>
              </a:rPr>
              <a:t>¿ 0º -Por qué será...?</a:t>
            </a:r>
            <a:endParaRPr b="0" lang="en-US" sz="40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9900">
                      <a:alpha val="80392"/>
                    </a:srgbClr>
                  </a:gs>
                </a:gsLst>
                <a:lin ang="5400000"/>
              </a:gradFill>
              <a:effectLst>
                <a:outerShdw dist="107932" dir="2700000" blurRad="0" rotWithShape="0">
                  <a:srgbClr val="9999ff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4" name=""/>
          <p:cNvSpPr/>
          <p:nvPr/>
        </p:nvSpPr>
        <p:spPr>
          <a:xfrm>
            <a:off x="345960" y="216000"/>
            <a:ext cx="287280" cy="86508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865080"/>
              <a:gd name="textAreaBottom" fmla="*/ 851040 h 865080"/>
            </a:gdLst>
            <a:ahLst/>
            <a:rect l="textAreaLeft" t="textAreaTop" r="textAreaRight" b="textAreaBottom"/>
            <a:pathLst>
              <a:path w="21600" h="64989">
                <a:moveTo>
                  <a:pt x="3600" y="0"/>
                </a:moveTo>
                <a:arcTo wR="3600" hR="3600" stAng="16200000" swAng="-5400000"/>
                <a:lnTo>
                  <a:pt x="0" y="61389"/>
                </a:lnTo>
                <a:arcTo wR="3600" hR="3600" stAng="10800000" swAng="-5400000"/>
                <a:lnTo>
                  <a:pt x="18000" y="649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406440" y="838080"/>
            <a:ext cx="190440" cy="1908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395280" y="58896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5280" y="266760"/>
            <a:ext cx="190440" cy="190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50920" y="0"/>
            <a:ext cx="2340000" cy="6483240"/>
          </a:xfrm>
          <a:custGeom>
            <a:avLst/>
            <a:gdLst>
              <a:gd name="textAreaLeft" fmla="*/ 360 w 2340000"/>
              <a:gd name="textAreaRight" fmla="*/ 2339640 w 2340000"/>
              <a:gd name="textAreaTop" fmla="*/ 360 h 6483240"/>
              <a:gd name="textAreaBottom" fmla="*/ 6482880 h 6483240"/>
            </a:gdLst>
            <a:ahLst/>
            <a:rect l="textAreaLeft" t="textAreaTop" r="textAreaRight" b="textAreaBottom"/>
            <a:pathLst>
              <a:path w="21600" h="59839">
                <a:moveTo>
                  <a:pt x="14" y="0"/>
                </a:moveTo>
                <a:arcTo wR="14" hR="14" stAng="16200000" swAng="-5400000"/>
                <a:lnTo>
                  <a:pt x="0" y="59825"/>
                </a:lnTo>
                <a:arcTo wR="14" hR="14" stAng="10800000" swAng="-5400000"/>
                <a:lnTo>
                  <a:pt x="21586" y="59839"/>
                </a:lnTo>
                <a:arcTo wR="14" hR="14" stAng="5400000" swAng="-5400000"/>
                <a:lnTo>
                  <a:pt x="21600" y="14"/>
                </a:lnTo>
                <a:arcTo wR="14" hR="14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979640" y="1376280"/>
            <a:ext cx="6478560" cy="23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lin ang="10800000"/>
          </a:gra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¿ Por qué se empeñan los empresarios en decir que las empresas están basadas en las personas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979640" y="3933720"/>
            <a:ext cx="6478560" cy="23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lin ang="10800000"/>
          </a:gra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833c88"/>
                </a:solidFill>
                <a:latin typeface="Arial"/>
              </a:rPr>
              <a:t>¿ Será que a las maquinas no se las puede putear, que si no las engrasas, o si les quitas, el suministro de energía, se pararan 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833c88"/>
                </a:solidFill>
                <a:latin typeface="Arial"/>
              </a:rPr>
              <a:t>¿ Será que siempre se necesitaran personas a quien jorobar y machacar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15880" y="1343160"/>
            <a:ext cx="2040120" cy="50385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 txBox="1"/>
          <p:nvPr/>
        </p:nvSpPr>
        <p:spPr>
          <a:xfrm>
            <a:off x="1619280" y="260280"/>
            <a:ext cx="712944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9900">
                        <a:alpha val="80392"/>
                      </a:srgbClr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9999ff">
                      <a:alpha val="50000"/>
                    </a:srgbClr>
                  </a:outerShdw>
                </a:effectLst>
                <a:latin typeface="Arial Black"/>
              </a:rPr>
              <a:t>¿ 1º -Por qué será...?</a:t>
            </a:r>
            <a:endParaRPr b="0" lang="en-US" sz="40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9900">
                      <a:alpha val="80392"/>
                    </a:srgbClr>
                  </a:gs>
                </a:gsLst>
                <a:lin ang="5400000"/>
              </a:gradFill>
              <a:effectLst>
                <a:outerShdw dist="107932" dir="2700000" blurRad="0" rotWithShape="0">
                  <a:srgbClr val="9999ff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3" name=""/>
          <p:cNvSpPr/>
          <p:nvPr/>
        </p:nvSpPr>
        <p:spPr>
          <a:xfrm>
            <a:off x="345960" y="216000"/>
            <a:ext cx="287280" cy="86508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865080"/>
              <a:gd name="textAreaBottom" fmla="*/ 851040 h 865080"/>
            </a:gdLst>
            <a:ahLst/>
            <a:rect l="textAreaLeft" t="textAreaTop" r="textAreaRight" b="textAreaBottom"/>
            <a:pathLst>
              <a:path w="21600" h="64989">
                <a:moveTo>
                  <a:pt x="3600" y="0"/>
                </a:moveTo>
                <a:arcTo wR="3600" hR="3600" stAng="16200000" swAng="-5400000"/>
                <a:lnTo>
                  <a:pt x="0" y="61389"/>
                </a:lnTo>
                <a:arcTo wR="3600" hR="3600" stAng="10800000" swAng="-5400000"/>
                <a:lnTo>
                  <a:pt x="18000" y="649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406440" y="838080"/>
            <a:ext cx="190440" cy="1908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395280" y="58896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5280" y="266760"/>
            <a:ext cx="190440" cy="190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250920" y="0"/>
            <a:ext cx="2340000" cy="6483240"/>
          </a:xfrm>
          <a:custGeom>
            <a:avLst/>
            <a:gdLst>
              <a:gd name="textAreaLeft" fmla="*/ 360 w 2340000"/>
              <a:gd name="textAreaRight" fmla="*/ 2339640 w 2340000"/>
              <a:gd name="textAreaTop" fmla="*/ 360 h 6483240"/>
              <a:gd name="textAreaBottom" fmla="*/ 6482880 h 6483240"/>
            </a:gdLst>
            <a:ahLst/>
            <a:rect l="textAreaLeft" t="textAreaTop" r="textAreaRight" b="textAreaBottom"/>
            <a:pathLst>
              <a:path w="21600" h="59839">
                <a:moveTo>
                  <a:pt x="14" y="0"/>
                </a:moveTo>
                <a:arcTo wR="14" hR="14" stAng="16200000" swAng="-5400000"/>
                <a:lnTo>
                  <a:pt x="0" y="59825"/>
                </a:lnTo>
                <a:arcTo wR="14" hR="14" stAng="10800000" swAng="-5400000"/>
                <a:lnTo>
                  <a:pt x="21586" y="59839"/>
                </a:lnTo>
                <a:arcTo wR="14" hR="14" stAng="5400000" swAng="-5400000"/>
                <a:lnTo>
                  <a:pt x="21600" y="14"/>
                </a:lnTo>
                <a:arcTo wR="14" hR="14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979640" y="1376280"/>
            <a:ext cx="6478560" cy="23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lin ang="10800000"/>
          </a:gra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¿ Por qué algunos directores dicen, que en sus empresas lo principal es, la familia y salud de los trabajadores y por otro lado se quejan del absentismo laboral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79640" y="3933720"/>
            <a:ext cx="6478560" cy="23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lin ang="10800000"/>
          </a:gra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833c88"/>
                </a:solidFill>
                <a:latin typeface="Arial"/>
              </a:rPr>
              <a:t>¿ Será que siempre llevo a toda la familia al doctor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833c88"/>
                </a:solidFill>
                <a:latin typeface="Arial"/>
              </a:rPr>
              <a:t>¿ Será que siempre llevo y traigo de la escuela a mis hijos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833c88"/>
                </a:solidFill>
                <a:latin typeface="Arial"/>
              </a:rPr>
              <a:t>¿ Será que siempre estoy con sus profesores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833c88"/>
                </a:solidFill>
                <a:latin typeface="Arial"/>
              </a:rPr>
              <a:t>¿ Será que lo primero es por bien quedar y lo segundo, por falta de medios y medidas de seguridad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833c88"/>
                </a:solidFill>
                <a:latin typeface="Arial"/>
              </a:rPr>
              <a:t>¿ Será que todo lo que hace mi mujer, sea pasear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515880" y="1343160"/>
            <a:ext cx="2040120" cy="5038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 txBox="1"/>
          <p:nvPr/>
        </p:nvSpPr>
        <p:spPr>
          <a:xfrm>
            <a:off x="1619280" y="260280"/>
            <a:ext cx="712944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9900">
                        <a:alpha val="80392"/>
                      </a:srgbClr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9999ff">
                      <a:alpha val="50000"/>
                    </a:srgbClr>
                  </a:outerShdw>
                </a:effectLst>
                <a:latin typeface="Arial Black"/>
              </a:rPr>
              <a:t>¿ 2º -Por qué será...?</a:t>
            </a:r>
            <a:endParaRPr b="0" lang="en-US" sz="40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9900">
                      <a:alpha val="80392"/>
                    </a:srgbClr>
                  </a:gs>
                </a:gsLst>
                <a:lin ang="5400000"/>
              </a:gradFill>
              <a:effectLst>
                <a:outerShdw dist="107932" dir="2700000" blurRad="0" rotWithShape="0">
                  <a:srgbClr val="9999ff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2" name=""/>
          <p:cNvSpPr/>
          <p:nvPr/>
        </p:nvSpPr>
        <p:spPr>
          <a:xfrm>
            <a:off x="345960" y="216000"/>
            <a:ext cx="287280" cy="86508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865080"/>
              <a:gd name="textAreaBottom" fmla="*/ 851040 h 865080"/>
            </a:gdLst>
            <a:ahLst/>
            <a:rect l="textAreaLeft" t="textAreaTop" r="textAreaRight" b="textAreaBottom"/>
            <a:pathLst>
              <a:path w="21600" h="64989">
                <a:moveTo>
                  <a:pt x="3600" y="0"/>
                </a:moveTo>
                <a:arcTo wR="3600" hR="3600" stAng="16200000" swAng="-5400000"/>
                <a:lnTo>
                  <a:pt x="0" y="61389"/>
                </a:lnTo>
                <a:arcTo wR="3600" hR="3600" stAng="10800000" swAng="-5400000"/>
                <a:lnTo>
                  <a:pt x="18000" y="649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406440" y="838080"/>
            <a:ext cx="190440" cy="1908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395280" y="58896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5280" y="266760"/>
            <a:ext cx="190440" cy="190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50920" y="0"/>
            <a:ext cx="2340000" cy="6483240"/>
          </a:xfrm>
          <a:custGeom>
            <a:avLst/>
            <a:gdLst>
              <a:gd name="textAreaLeft" fmla="*/ 360 w 2340000"/>
              <a:gd name="textAreaRight" fmla="*/ 2339640 w 2340000"/>
              <a:gd name="textAreaTop" fmla="*/ 360 h 6483240"/>
              <a:gd name="textAreaBottom" fmla="*/ 6482880 h 6483240"/>
            </a:gdLst>
            <a:ahLst/>
            <a:rect l="textAreaLeft" t="textAreaTop" r="textAreaRight" b="textAreaBottom"/>
            <a:pathLst>
              <a:path w="21600" h="59839">
                <a:moveTo>
                  <a:pt x="14" y="0"/>
                </a:moveTo>
                <a:arcTo wR="14" hR="14" stAng="16200000" swAng="-5400000"/>
                <a:lnTo>
                  <a:pt x="0" y="59825"/>
                </a:lnTo>
                <a:arcTo wR="14" hR="14" stAng="10800000" swAng="-5400000"/>
                <a:lnTo>
                  <a:pt x="21586" y="59839"/>
                </a:lnTo>
                <a:arcTo wR="14" hR="14" stAng="5400000" swAng="-5400000"/>
                <a:lnTo>
                  <a:pt x="21600" y="14"/>
                </a:lnTo>
                <a:arcTo wR="14" hR="14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979640" y="1376280"/>
            <a:ext cx="6478560" cy="23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lin ang="10800000"/>
          </a:gra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¿ Por qué  en muchas de las largas negociaciones de convenios, los empresarios argumentan y defienden con vehemencia, que su oferta es la mejor o superior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79640" y="3933720"/>
            <a:ext cx="6478560" cy="23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lin ang="10800000"/>
          </a:gra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833c88"/>
                </a:solidFill>
                <a:latin typeface="Arial"/>
              </a:rPr>
              <a:t>¿ Será que siempre quieren para nosotros los currelas lo mejor de lo mejor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833c88"/>
                </a:solidFill>
                <a:latin typeface="Arial"/>
              </a:rPr>
              <a:t>¡ Dales lo que piden de una puta vez y que se jodan si es peor 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15880" y="1343160"/>
            <a:ext cx="2040120" cy="5038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 txBox="1"/>
          <p:nvPr/>
        </p:nvSpPr>
        <p:spPr>
          <a:xfrm>
            <a:off x="1619280" y="260280"/>
            <a:ext cx="712944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9900">
                        <a:alpha val="80392"/>
                      </a:srgbClr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9999ff">
                      <a:alpha val="50000"/>
                    </a:srgbClr>
                  </a:outerShdw>
                </a:effectLst>
                <a:latin typeface="Arial Black"/>
              </a:rPr>
              <a:t>¿ 3º -Por qué será...?</a:t>
            </a:r>
            <a:endParaRPr b="0" lang="en-US" sz="40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9900">
                      <a:alpha val="80392"/>
                    </a:srgbClr>
                  </a:gs>
                </a:gsLst>
                <a:lin ang="5400000"/>
              </a:gradFill>
              <a:effectLst>
                <a:outerShdw dist="107932" dir="2700000" blurRad="0" rotWithShape="0">
                  <a:srgbClr val="9999ff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1" name=""/>
          <p:cNvSpPr/>
          <p:nvPr/>
        </p:nvSpPr>
        <p:spPr>
          <a:xfrm>
            <a:off x="345960" y="216000"/>
            <a:ext cx="287280" cy="86508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865080"/>
              <a:gd name="textAreaBottom" fmla="*/ 851040 h 865080"/>
            </a:gdLst>
            <a:ahLst/>
            <a:rect l="textAreaLeft" t="textAreaTop" r="textAreaRight" b="textAreaBottom"/>
            <a:pathLst>
              <a:path w="21600" h="64989">
                <a:moveTo>
                  <a:pt x="3600" y="0"/>
                </a:moveTo>
                <a:arcTo wR="3600" hR="3600" stAng="16200000" swAng="-5400000"/>
                <a:lnTo>
                  <a:pt x="0" y="61389"/>
                </a:lnTo>
                <a:arcTo wR="3600" hR="3600" stAng="10800000" swAng="-5400000"/>
                <a:lnTo>
                  <a:pt x="18000" y="649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406440" y="838080"/>
            <a:ext cx="190440" cy="1908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395280" y="58896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5280" y="266760"/>
            <a:ext cx="190440" cy="190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50920" y="0"/>
            <a:ext cx="2340000" cy="6483240"/>
          </a:xfrm>
          <a:custGeom>
            <a:avLst/>
            <a:gdLst>
              <a:gd name="textAreaLeft" fmla="*/ 360 w 2340000"/>
              <a:gd name="textAreaRight" fmla="*/ 2339640 w 2340000"/>
              <a:gd name="textAreaTop" fmla="*/ 360 h 6483240"/>
              <a:gd name="textAreaBottom" fmla="*/ 6482880 h 6483240"/>
            </a:gdLst>
            <a:ahLst/>
            <a:rect l="textAreaLeft" t="textAreaTop" r="textAreaRight" b="textAreaBottom"/>
            <a:pathLst>
              <a:path w="21600" h="59839">
                <a:moveTo>
                  <a:pt x="14" y="0"/>
                </a:moveTo>
                <a:arcTo wR="14" hR="14" stAng="16200000" swAng="-5400000"/>
                <a:lnTo>
                  <a:pt x="0" y="59825"/>
                </a:lnTo>
                <a:arcTo wR="14" hR="14" stAng="10800000" swAng="-5400000"/>
                <a:lnTo>
                  <a:pt x="21586" y="59839"/>
                </a:lnTo>
                <a:arcTo wR="14" hR="14" stAng="5400000" swAng="-5400000"/>
                <a:lnTo>
                  <a:pt x="21600" y="14"/>
                </a:lnTo>
                <a:arcTo wR="14" hR="14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979640" y="1376280"/>
            <a:ext cx="6478560" cy="23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lin ang="10800000"/>
          </a:gra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¿ Por qué  se afirma. Toda persona en cualquier jerarquía, asciende, hasta alcanzar el nivel de incompetenci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979640" y="3933720"/>
            <a:ext cx="6478560" cy="23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lin ang="10800000"/>
          </a:gra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833c88"/>
                </a:solidFill>
                <a:latin typeface="Arial"/>
              </a:rPr>
              <a:t>¿ Será que es una verdad como un templo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833c88"/>
                </a:solidFill>
                <a:latin typeface="Arial"/>
              </a:rPr>
              <a:t>¿Será ese el motivo por el que estoy un par de niveles por debajo de mis superior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515880" y="1343160"/>
            <a:ext cx="2040120" cy="503856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 txBox="1"/>
          <p:nvPr/>
        </p:nvSpPr>
        <p:spPr>
          <a:xfrm>
            <a:off x="1619280" y="260280"/>
            <a:ext cx="712944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9900">
                        <a:alpha val="80392"/>
                      </a:srgbClr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9999ff">
                      <a:alpha val="50000"/>
                    </a:srgbClr>
                  </a:outerShdw>
                </a:effectLst>
                <a:latin typeface="Arial Black"/>
              </a:rPr>
              <a:t>¿ 4º -Por qué será...?</a:t>
            </a:r>
            <a:endParaRPr b="0" lang="en-US" sz="40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9900">
                      <a:alpha val="80392"/>
                    </a:srgbClr>
                  </a:gs>
                </a:gsLst>
                <a:lin ang="5400000"/>
              </a:gradFill>
              <a:effectLst>
                <a:outerShdw dist="107932" dir="2700000" blurRad="0" rotWithShape="0">
                  <a:srgbClr val="9999ff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0" name=""/>
          <p:cNvSpPr/>
          <p:nvPr/>
        </p:nvSpPr>
        <p:spPr>
          <a:xfrm>
            <a:off x="345960" y="216000"/>
            <a:ext cx="287280" cy="86508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865080"/>
              <a:gd name="textAreaBottom" fmla="*/ 851040 h 865080"/>
            </a:gdLst>
            <a:ahLst/>
            <a:rect l="textAreaLeft" t="textAreaTop" r="textAreaRight" b="textAreaBottom"/>
            <a:pathLst>
              <a:path w="21600" h="64989">
                <a:moveTo>
                  <a:pt x="3600" y="0"/>
                </a:moveTo>
                <a:arcTo wR="3600" hR="3600" stAng="16200000" swAng="-5400000"/>
                <a:lnTo>
                  <a:pt x="0" y="61389"/>
                </a:lnTo>
                <a:arcTo wR="3600" hR="3600" stAng="10800000" swAng="-5400000"/>
                <a:lnTo>
                  <a:pt x="18000" y="649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406440" y="838080"/>
            <a:ext cx="190440" cy="1908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395280" y="58896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5280" y="266760"/>
            <a:ext cx="190440" cy="190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250920" y="0"/>
            <a:ext cx="2340000" cy="6483240"/>
          </a:xfrm>
          <a:custGeom>
            <a:avLst/>
            <a:gdLst>
              <a:gd name="textAreaLeft" fmla="*/ 360 w 2340000"/>
              <a:gd name="textAreaRight" fmla="*/ 2339640 w 2340000"/>
              <a:gd name="textAreaTop" fmla="*/ 360 h 6483240"/>
              <a:gd name="textAreaBottom" fmla="*/ 6482880 h 6483240"/>
            </a:gdLst>
            <a:ahLst/>
            <a:rect l="textAreaLeft" t="textAreaTop" r="textAreaRight" b="textAreaBottom"/>
            <a:pathLst>
              <a:path w="21600" h="59839">
                <a:moveTo>
                  <a:pt x="14" y="0"/>
                </a:moveTo>
                <a:arcTo wR="14" hR="14" stAng="16200000" swAng="-5400000"/>
                <a:lnTo>
                  <a:pt x="0" y="59825"/>
                </a:lnTo>
                <a:arcTo wR="14" hR="14" stAng="10800000" swAng="-5400000"/>
                <a:lnTo>
                  <a:pt x="21586" y="59839"/>
                </a:lnTo>
                <a:arcTo wR="14" hR="14" stAng="5400000" swAng="-5400000"/>
                <a:lnTo>
                  <a:pt x="21600" y="14"/>
                </a:lnTo>
                <a:arcTo wR="14" hR="14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979640" y="1376280"/>
            <a:ext cx="6478560" cy="23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lin ang="10800000"/>
          </a:gra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¿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Por qué ahora que estoy jubilado me fluyen las ideas y diseños con mayor facilidad, variedad y lucidez que cuando estaba currando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979640" y="3933720"/>
            <a:ext cx="6478560" cy="23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lin ang="10800000"/>
          </a:gra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833c88"/>
                </a:solidFill>
                <a:latin typeface="Arial"/>
              </a:rPr>
              <a:t>¿ </a:t>
            </a:r>
            <a:r>
              <a:rPr b="1" lang="es-ES" sz="2800" spc="-1" strike="noStrike">
                <a:solidFill>
                  <a:srgbClr val="833c88"/>
                </a:solidFill>
                <a:latin typeface="Arial"/>
              </a:rPr>
              <a:t>Será que lo que digo y hago es mió, para bien o para mal </a:t>
            </a:r>
            <a:r>
              <a:rPr b="1" lang="es-ES" sz="2400" spc="-1" strike="noStrike">
                <a:solidFill>
                  <a:srgbClr val="833c88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833c88"/>
                </a:solidFill>
                <a:latin typeface="Arial"/>
              </a:rPr>
              <a:t>¿ </a:t>
            </a:r>
            <a:r>
              <a:rPr b="1" lang="es-ES" sz="2800" spc="-1" strike="noStrike">
                <a:solidFill>
                  <a:srgbClr val="833c88"/>
                </a:solidFill>
                <a:latin typeface="Arial"/>
              </a:rPr>
              <a:t>Será que ahora no tengo, ni intermediarios, ni directrices que me puedan atorar </a:t>
            </a:r>
            <a:r>
              <a:rPr b="1" lang="es-ES" sz="2400" spc="-1" strike="noStrike">
                <a:solidFill>
                  <a:srgbClr val="833c88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515880" y="1343160"/>
            <a:ext cx="2040120" cy="503856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 txBox="1"/>
          <p:nvPr/>
        </p:nvSpPr>
        <p:spPr>
          <a:xfrm>
            <a:off x="1619280" y="260280"/>
            <a:ext cx="712944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9900">
                        <a:alpha val="80392"/>
                      </a:srgbClr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9999ff">
                      <a:alpha val="50000"/>
                    </a:srgbClr>
                  </a:outerShdw>
                </a:effectLst>
                <a:latin typeface="Arial Black"/>
              </a:rPr>
              <a:t>¿ 5º -Por qué será...?</a:t>
            </a:r>
            <a:endParaRPr b="0" lang="en-US" sz="40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9900">
                      <a:alpha val="80392"/>
                    </a:srgbClr>
                  </a:gs>
                </a:gsLst>
                <a:lin ang="5400000"/>
              </a:gradFill>
              <a:effectLst>
                <a:outerShdw dist="107932" dir="2700000" blurRad="0" rotWithShape="0">
                  <a:srgbClr val="9999ff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9" name=""/>
          <p:cNvSpPr/>
          <p:nvPr/>
        </p:nvSpPr>
        <p:spPr>
          <a:xfrm>
            <a:off x="345960" y="216000"/>
            <a:ext cx="287280" cy="86508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865080"/>
              <a:gd name="textAreaBottom" fmla="*/ 851040 h 865080"/>
            </a:gdLst>
            <a:ahLst/>
            <a:rect l="textAreaLeft" t="textAreaTop" r="textAreaRight" b="textAreaBottom"/>
            <a:pathLst>
              <a:path w="21600" h="64989">
                <a:moveTo>
                  <a:pt x="3600" y="0"/>
                </a:moveTo>
                <a:arcTo wR="3600" hR="3600" stAng="16200000" swAng="-5400000"/>
                <a:lnTo>
                  <a:pt x="0" y="61389"/>
                </a:lnTo>
                <a:arcTo wR="3600" hR="3600" stAng="10800000" swAng="-5400000"/>
                <a:lnTo>
                  <a:pt x="18000" y="649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406440" y="838080"/>
            <a:ext cx="190440" cy="1908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395280" y="58896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5280" y="266760"/>
            <a:ext cx="190440" cy="190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250920" y="0"/>
            <a:ext cx="2340000" cy="6483240"/>
          </a:xfrm>
          <a:custGeom>
            <a:avLst/>
            <a:gdLst>
              <a:gd name="textAreaLeft" fmla="*/ 360 w 2340000"/>
              <a:gd name="textAreaRight" fmla="*/ 2339640 w 2340000"/>
              <a:gd name="textAreaTop" fmla="*/ 360 h 6483240"/>
              <a:gd name="textAreaBottom" fmla="*/ 6482880 h 6483240"/>
            </a:gdLst>
            <a:ahLst/>
            <a:rect l="textAreaLeft" t="textAreaTop" r="textAreaRight" b="textAreaBottom"/>
            <a:pathLst>
              <a:path w="21600" h="59839">
                <a:moveTo>
                  <a:pt x="14" y="0"/>
                </a:moveTo>
                <a:arcTo wR="14" hR="14" stAng="16200000" swAng="-5400000"/>
                <a:lnTo>
                  <a:pt x="0" y="59825"/>
                </a:lnTo>
                <a:arcTo wR="14" hR="14" stAng="10800000" swAng="-5400000"/>
                <a:lnTo>
                  <a:pt x="21586" y="59839"/>
                </a:lnTo>
                <a:arcTo wR="14" hR="14" stAng="5400000" swAng="-5400000"/>
                <a:lnTo>
                  <a:pt x="21600" y="14"/>
                </a:lnTo>
                <a:arcTo wR="14" hR="14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979640" y="1376280"/>
            <a:ext cx="6478560" cy="23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lin ang="10800000"/>
          </a:gra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¿ Por qué nadie dice la cantidad de ordenadores (puestos) y el retraso industrial que tendríamos, si no existiese la piratería informátic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979640" y="3933720"/>
            <a:ext cx="6478560" cy="23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lin ang="10800000"/>
          </a:gra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833c88"/>
                </a:solidFill>
                <a:latin typeface="Arial"/>
              </a:rPr>
              <a:t>¿ Será que algunos solo quieren mas y mas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833c88"/>
                </a:solidFill>
                <a:latin typeface="Arial"/>
              </a:rPr>
              <a:t>¿ Tendrías tú ordenador, sabrías pintar, calcular, escribir o dibujar si todo lo que tu tienes fuese legal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515880" y="1343160"/>
            <a:ext cx="2040120" cy="503856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 txBox="1"/>
          <p:nvPr/>
        </p:nvSpPr>
        <p:spPr>
          <a:xfrm>
            <a:off x="1619280" y="260280"/>
            <a:ext cx="712944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9900">
                        <a:alpha val="80392"/>
                      </a:srgbClr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9999ff">
                      <a:alpha val="50000"/>
                    </a:srgbClr>
                  </a:outerShdw>
                </a:effectLst>
                <a:latin typeface="Arial Black"/>
              </a:rPr>
              <a:t>¿ 6º -Por qué será...?</a:t>
            </a:r>
            <a:endParaRPr b="0" lang="en-US" sz="40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9900">
                      <a:alpha val="80392"/>
                    </a:srgbClr>
                  </a:gs>
                </a:gsLst>
                <a:lin ang="5400000"/>
              </a:gradFill>
              <a:effectLst>
                <a:outerShdw dist="107932" dir="2700000" blurRad="0" rotWithShape="0">
                  <a:srgbClr val="9999ff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8" name=""/>
          <p:cNvSpPr/>
          <p:nvPr/>
        </p:nvSpPr>
        <p:spPr>
          <a:xfrm>
            <a:off x="345960" y="216000"/>
            <a:ext cx="287280" cy="86508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865080"/>
              <a:gd name="textAreaBottom" fmla="*/ 851040 h 865080"/>
            </a:gdLst>
            <a:ahLst/>
            <a:rect l="textAreaLeft" t="textAreaTop" r="textAreaRight" b="textAreaBottom"/>
            <a:pathLst>
              <a:path w="21600" h="64989">
                <a:moveTo>
                  <a:pt x="3600" y="0"/>
                </a:moveTo>
                <a:arcTo wR="3600" hR="3600" stAng="16200000" swAng="-5400000"/>
                <a:lnTo>
                  <a:pt x="0" y="61389"/>
                </a:lnTo>
                <a:arcTo wR="3600" hR="3600" stAng="10800000" swAng="-5400000"/>
                <a:lnTo>
                  <a:pt x="18000" y="649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406440" y="838080"/>
            <a:ext cx="190440" cy="1908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395280" y="58896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5280" y="266760"/>
            <a:ext cx="190440" cy="190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 MANUEL LATORRE</dc:creator>
  <dc:description/>
  <dc:language>en-US</dc:language>
  <cp:lastModifiedBy>aita-j m latorre</cp:lastModifiedBy>
  <dcterms:modified xsi:type="dcterms:W3CDTF">2007-06-30T16:25:15Z</dcterms:modified>
  <cp:revision>55</cp:revision>
  <dc:subject/>
  <dc:title>Diapositiva 1</dc:title>
</cp:coreProperties>
</file>