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3340160" y="-9233280"/>
            <a:ext cx="26682840" cy="200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2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4CE-DA6C-40BA-ABFA-53C8469D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34A-F39A-4EAB-8401-BF47E8A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F89-FD96-46B5-A85A-AE17F5BF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C02-A1D2-4881-89F1-E355F3EE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05F8-89B8-40BE-B3C9-B4265A8C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30E-6F4C-407D-A6F3-9124B8C2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CD99-3FB5-4B21-A4FA-20306AD8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6AC6-652D-461A-BD20-A5FF3D24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A583-1826-41FC-89E4-BADA7899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BF85-1C79-4E30-9A90-0D99A2A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C44-6A45-4A8B-98FB-9B3B9DA2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264-243E-4887-93B4-8E5F424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263-8725-4AEF-8968-E9B2FB4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81F3-884A-4F61-AFA4-8D1F001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141-CFD2-4B20-887A-C1B5D31F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001E-9B6F-4C9F-A033-0E5164C8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F752-9484-4757-8781-BEDE7212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4BD-BF9F-4FE7-AC92-50D3461B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FAF-DD9B-4BAE-9F39-30EE6AE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352-A554-4DB4-A8B8-61F1E9D6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A07-793D-4101-8300-DA0D471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AB4-7FE4-4D08-AA20-99717C6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ABC-7D3C-4B24-9068-A702F058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5C8-FB28-4B12-9B0E-F010A888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A5219F-2577-4588-BBE2-E7E6929524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3EE62-6BC5-48E1-BA2B-9CD6415C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por_que.html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l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me estará costando tanto adaptarme a mi nuevo estado “No labora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os burros de carga no la soltamos, hasta reven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Tendré el síntoma de Estocolmo? ¡¡ Mecachis en la mar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antes. si fijaba mucho mi vista en alguna cosa, al final me abstraía y mi mente se iba, a los temas pendientes de mi vida labor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era un grandísimo giripollas men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Ahora veo vida en las flores, paisajes en la música y muchas cosas mas, pero ninguna labo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 empeñan los empresarios en decir que las empresas están basadas en las personas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a las maquinas no se las puede putear, que si no las engrasas, o si les quitas, el suministro de energía, se pararan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iempre se necesitaran personas a quien jorobar y machac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directores dicen, que en sus empresas lo principal es, la familia y salud de los trabajadores y por otro lado se quejan del absentismo labor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siempre llevo a toda la familia al docto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siempre llevo y traigo de la escuela a mis hij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siempre estoy con sus profeso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lo primero es por bien quedar y lo segundo, por falta de medios y medidas de segurida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833c88"/>
                </a:solidFill>
                <a:latin typeface="Arial"/>
              </a:rPr>
              <a:t>¿ Será que todo lo que hace mi mujer, sea pasea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en muchas de las largas negociaciones de convenios, los empresarios argumentan y defienden con vehemencia, que su oferta es la mejor o superi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iempre quieren para nosotros los currelas lo mejor de lo mej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 Dales lo que piden de una puta vez y que se jodan si es peor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se afirma. Toda persona en cualquier jerarquía, asciende, hasta alcanzar el nivel de incompeten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a verdad como un templ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ese el motivo por el que estoy un par de niveles por debajo de mis superi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qué ahora que estoy jubilado me fluyen las ideas y diseños con mayor facilidad, variedad y lucidez que cuando estaba curr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</a:t>
            </a: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Será que lo que digo y hago es mió, para bien o para mal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</a:t>
            </a: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Será que ahora no tengo, ni intermediarios, ni directrices que me puedan atorar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nadie dice la cantidad de ordenadores (puestos) y el retraso industrial que tendríamos, si no existiese la piratería informá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solo quieren mas y m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Tendrías tú ordenador, sabrías pintar, calcular, escribir o dibujar si todo lo que tu tienes fuese legal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6-30T16:25:15Z</dcterms:modified>
  <cp:revision>55</cp:revision>
  <dc:subject/>
  <dc:title>Diapositiva 1</dc:title>
</cp:coreProperties>
</file>