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5" y="0"/>
                </a:moveTo>
                <a:arcTo wR="5" hR="5" stAng="16200000" swAng="-5400000"/>
                <a:lnTo>
                  <a:pt x="0" y="31120"/>
                </a:lnTo>
                <a:arcTo wR="5" hR="5" stAng="10800000" swAng="-5400000"/>
                <a:lnTo>
                  <a:pt x="21595" y="311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5" y="0"/>
                </a:moveTo>
                <a:arcTo wR="5" hR="5" stAng="16200000" swAng="-5400000"/>
                <a:lnTo>
                  <a:pt x="0" y="31120"/>
                </a:lnTo>
                <a:arcTo wR="5" hR="5" stAng="10800000" swAng="-5400000"/>
                <a:lnTo>
                  <a:pt x="21595" y="311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5" y="0"/>
                </a:moveTo>
                <a:arcTo wR="5" hR="5" stAng="16200000" swAng="-5400000"/>
                <a:lnTo>
                  <a:pt x="0" y="31120"/>
                </a:lnTo>
                <a:arcTo wR="5" hR="5" stAng="10800000" swAng="-5400000"/>
                <a:lnTo>
                  <a:pt x="21595" y="311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5" y="0"/>
                </a:moveTo>
                <a:arcTo wR="5" hR="5" stAng="16200000" swAng="-5400000"/>
                <a:lnTo>
                  <a:pt x="0" y="31120"/>
                </a:lnTo>
                <a:arcTo wR="5" hR="5" stAng="10800000" swAng="-5400000"/>
                <a:lnTo>
                  <a:pt x="21595" y="311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5" y="0"/>
                </a:moveTo>
                <a:arcTo wR="5" hR="5" stAng="16200000" swAng="-5400000"/>
                <a:lnTo>
                  <a:pt x="0" y="31120"/>
                </a:lnTo>
                <a:arcTo wR="5" hR="5" stAng="10800000" swAng="-5400000"/>
                <a:lnTo>
                  <a:pt x="21595" y="311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-13340160" y="-9233280"/>
            <a:ext cx="26682840" cy="200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2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219400" y="777960"/>
            <a:ext cx="26636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219400" y="777960"/>
            <a:ext cx="26636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19400" y="777960"/>
            <a:ext cx="26636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219400" y="777960"/>
            <a:ext cx="26636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219400" y="777960"/>
            <a:ext cx="26636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219400" y="777960"/>
            <a:ext cx="26636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219400" y="777960"/>
            <a:ext cx="26636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219400" y="777960"/>
            <a:ext cx="26636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219400" y="777960"/>
            <a:ext cx="26636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19400" y="777960"/>
            <a:ext cx="26636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219400" y="777960"/>
            <a:ext cx="26636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0C2C-9465-4508-A2C2-B78FD432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07B6-D787-4D5E-B1C1-4E13324D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EFD2-0151-4E0D-8B9D-BD63F7BB7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D765-50D6-4C94-86F5-845C80B09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0025-A119-4286-89CF-2406FBAB2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0E21-5470-4FE2-9F2D-FA424C5E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2C34-EC0C-40B2-BF7A-C9D71B58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8098-6D38-47E4-B7DC-2D95EF1E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8627-AFBA-4ED5-BC7D-49BD3BA6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7C03-CCDF-4DE0-A7E3-EB97D996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383A-9FE4-4B93-A8D0-FC57F660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B7A8-FE5A-4F2C-B252-94428ACB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960B-FCFF-4FF1-B377-0DEE1E80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8768-182B-4F2E-8A52-47EBFC57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A564-C53A-4F27-B57A-ED304AAE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985B-6075-41F6-BFD9-3A8EEE508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9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E745-8834-4591-ABAD-2C798A25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95A3-1676-4612-9461-B47C13EC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1E7E-B08C-442A-8783-C4661E39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6AE9-78D6-4F11-80DA-83832064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54A4-3E41-4EB1-B3CB-B9CBC542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15F4-0099-4E23-AD47-D0D99D81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5771-FA86-4AF3-83FC-16F9144A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8C47-6D6F-4C7C-B224-8DAA36D7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99880" indent="-29988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-24840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240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861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243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37559-BD97-475F-84A5-EEC976E47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F89EC0D-4E8C-47AB-8FCA-4A9E120B280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../../../chainmen__materiales/ocio/por_que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../../../chainmen__materiales/ocio/por_que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../../../chainmen__materiales/ocio/por_que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6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../../../chainmen__materiales/ocio/por_que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../../../chainmen__materiales/ocio/por_que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../../../chainmen__materiales/ocio/por_que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../../../chainmen__materiales/ocio/por_que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../../../chainmen__materiales/ocio/por_que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../../../chainmen__materiales/ocio/por_que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../../../chainmen__materiales/ocio/por_que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../../../chainmen__materiales/ocio/por_que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40000" y="1413000"/>
            <a:ext cx="611820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40000" y="4510080"/>
            <a:ext cx="611820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309840" y="1860480"/>
            <a:ext cx="4934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 Por qué será... ?</a:t>
            </a:r>
            <a:endParaRPr b="0" lang="en-US" sz="4000" spc="1" strike="noStrike">
              <a:ln w="12600">
                <a:solidFill>
                  <a:srgbClr val="ff99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56000" y="5029200"/>
            <a:ext cx="4933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833c88"/>
                  </a:solidFill>
                  <a:miter/>
                </a:ln>
                <a:solidFill>
                  <a:srgbClr val="c17cc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 Será por ... ?</a:t>
            </a:r>
            <a:endParaRPr b="0" lang="en-US" sz="4000" spc="1" strike="noStrike">
              <a:ln w="12600">
                <a:solidFill>
                  <a:srgbClr val="833c88"/>
                </a:solidFill>
                <a:miter/>
              </a:ln>
              <a:solidFill>
                <a:srgbClr val="c17cc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633840" y="3284640"/>
            <a:ext cx="482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584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l Parte</a:t>
            </a:r>
            <a:endParaRPr b="0" lang="en-US" sz="1800" spc="1" strike="noStrike">
              <a:ln w="1584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42920" y="333360"/>
            <a:ext cx="7777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 en todas las fabricas a las maquinas, se les cuida mas que a las personas, las engrasan, reparan, pintan y hasta les hacen mantenimiento preventiv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33c88"/>
                </a:solidFill>
                <a:latin typeface="Arial"/>
              </a:rPr>
              <a:t>¿ Será que no se nos nota, ni el cansancio, ni el envejecimiento, o el estré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33c88"/>
                </a:solidFill>
                <a:latin typeface="Arial"/>
              </a:rPr>
              <a:t>¿ Será que no hay balnearios, tratamientos ni manual de mantenimiento preventivo para mi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33c88"/>
                </a:solidFill>
                <a:latin typeface="Arial"/>
              </a:rPr>
              <a:t>¿ Será que cualquier maquina de mierda, vale 20 años de mi sueldo y como yo, hay un montó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7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dice la Patronal que el 37.6% de los directivos lo único que hacen es bajar el rendimiento de los departamentos que dirige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¡Coño! ¿Será cierto?. Datos ya tendr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en la mayoría de las empresas no cuentan con  más de 100 directivo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8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79640" y="1376280"/>
            <a:ext cx="6478560" cy="4932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será que me encuentro reflejado en tantos “Por qué …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soy human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que los demás no me entienden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que soy un cabrito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833c88"/>
                </a:solidFill>
                <a:latin typeface="Arial"/>
              </a:rPr>
              <a:t>¡¡ Coño 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Y Por qué me quito año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1619280" y="27612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4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904120" y="5791680"/>
            <a:ext cx="1910520" cy="390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Anterior álb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7120" y="20016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620640"/>
            <a:ext cx="1946160" cy="5394240"/>
          </a:xfrm>
          <a:custGeom>
            <a:avLst/>
            <a:gdLst>
              <a:gd name="textAreaLeft" fmla="*/ 360 w 1946160"/>
              <a:gd name="textAreaRight" fmla="*/ 1945800 w 1946160"/>
              <a:gd name="textAreaTop" fmla="*/ 360 h 5394240"/>
              <a:gd name="textAreaBottom" fmla="*/ 5393880 h 5394240"/>
            </a:gdLst>
            <a:ahLst/>
            <a:rect l="textAreaLeft" t="textAreaTop" r="textAreaRight" b="textAreaBottom"/>
            <a:pathLst>
              <a:path w="21600" h="59862">
                <a:moveTo>
                  <a:pt x="17" y="0"/>
                </a:moveTo>
                <a:arcTo wR="17" hR="17" stAng="16200000" swAng="-5400000"/>
                <a:lnTo>
                  <a:pt x="0" y="59845"/>
                </a:lnTo>
                <a:arcTo wR="17" hR="17" stAng="10800000" swAng="-5400000"/>
                <a:lnTo>
                  <a:pt x="21583" y="59862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08000" y="2924280"/>
            <a:ext cx="6624720" cy="2233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7662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¡ Jodo cuantas cosas desconozco 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3419640" y="4869000"/>
            <a:ext cx="3809880" cy="342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395280" y="84132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3203640" y="50133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8675640" y="189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8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1332000" y="27612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11" name="" descr="">
            <a:hlinkClick r:id="" action="ppaction://hlinkshowjump?jump=endshow"/>
          </p:cNvPr>
          <p:cNvPicPr/>
          <p:nvPr/>
        </p:nvPicPr>
        <p:blipFill>
          <a:blip r:embed="rId9"/>
          <a:stretch/>
        </p:blipFill>
        <p:spPr>
          <a:xfrm>
            <a:off x="8664480" y="63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0"/>
          <a:stretch/>
        </p:blipFill>
        <p:spPr>
          <a:xfrm>
            <a:off x="3056040" y="588816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436720" y="5793480"/>
            <a:ext cx="2044080" cy="390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Siguiente álbu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1"/>
          <a:stretch/>
        </p:blipFill>
        <p:spPr>
          <a:xfrm>
            <a:off x="7093080" y="587700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38560" y="1341360"/>
            <a:ext cx="6337080" cy="4897440"/>
          </a:xfrm>
          <a:prstGeom prst="roundRect">
            <a:avLst>
              <a:gd name="adj" fmla="val 76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3200" spc="-1" strike="noStrike">
                <a:solidFill>
                  <a:srgbClr val="9900cc"/>
                </a:solidFill>
                <a:latin typeface="Arial"/>
              </a:rPr>
              <a:t>Todo lo que a continuación  intento exponer, es fruto de mi experiencia. Acumulada, en 61 años de vida natural, con 45 de labo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J. M. Lator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755640" y="260280"/>
            <a:ext cx="7777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268360" y="4437000"/>
            <a:ext cx="6121440" cy="14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8574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O será mi imaginación 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6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fijándote en el muñeco de la izquierda, compruebas que a pesar de ser de oro, tiene una proyección morada y una sombra, tan negr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es un misterio de la físic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algunos nacemos así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solo un efecto óptic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0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Por qué no logramos mejores resultados, con los departamentos empresariales, que con los “Equipos de trabajo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33c88"/>
                </a:solidFill>
                <a:latin typeface="Arial"/>
              </a:rPr>
              <a:t>¿Será que los departamentos son más pequeños que los equip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33c88"/>
                </a:solidFill>
                <a:latin typeface="Arial"/>
              </a:rPr>
              <a:t>¿Será que tienen menos medi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33c88"/>
                </a:solidFill>
                <a:latin typeface="Arial"/>
              </a:rPr>
              <a:t>¿Será que en los departamentos igual no hay personas afines, ni voluntarios y encima al líder siempre te lo impondrá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1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Por qué se repiten tanto estas fra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Esta a escuadra? ¡N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Esta a nivel? ¡N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¡Entonces clav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Será una nueva forma de trabaj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Será una nueva forma de mand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Será que “nos la suda” y todo nos da igu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2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Por qué nunca se hace la siguiente encuesta, (secretamente claro) en vez de las actuales formas de evalu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Si tú tuvieses que montar una empresa como esta, a quienes de aquí te gustaría llev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por que los actuales registros de evaluación se echarían a tembl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Quizás no la podríamos montar por falta de person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3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cuando nos dormimos y llegamos tarde a trabajar, ponemos de excusa la enfermedad de un familiar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 No te has parado a pensar que de tanto y tanto repetirlo, algún día sucederá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 Será por miedo a lo que pueda pasar, si cuentas la verda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 Será que de elegantes ná de ná ?</a:t>
            </a: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4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cuando te pones en tanden con un superior a trabajar,  acabas solo y harto de tanto pedalear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 Será que se siente extraño, el pobre, al trabajar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 No te recuerda aquella gran pelea que bien empezó. Torta va, torta viene, torta va, torta viene, torta viene, torta viene, torta viene, hasta que me tumbo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5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dicen que los males de los currelas vienen, de a sus superiores, gritar y hacerles enfadar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No te has parado a pensar si a ti te sucede algo parecido o igual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no sabéis, que es, por intentar hacerles trabaja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6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8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 MANUEL LATORRE</dc:creator>
  <dc:description/>
  <dc:language>en-US</dc:language>
  <cp:lastModifiedBy>aita-j m latorre</cp:lastModifiedBy>
  <dcterms:modified xsi:type="dcterms:W3CDTF">2007-05-02T15:32:51Z</dcterms:modified>
  <cp:revision>58</cp:revision>
  <dc:subject/>
  <dc:title>Diapositiva 1</dc:title>
</cp:coreProperties>
</file>