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7102475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02800" cy="10234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0" y="0"/>
            <a:ext cx="7102440" cy="10234440"/>
          </a:xfrm>
          <a:custGeom>
            <a:avLst/>
            <a:gdLst>
              <a:gd name="textAreaLeft" fmla="*/ 360 w 7102440"/>
              <a:gd name="textAreaRight" fmla="*/ 7102080 w 710244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25">
                <a:moveTo>
                  <a:pt x="5" y="0"/>
                </a:moveTo>
                <a:arcTo wR="5" hR="5" stAng="16200000" swAng="-5400000"/>
                <a:lnTo>
                  <a:pt x="0" y="31120"/>
                </a:lnTo>
                <a:arcTo wR="5" hR="5" stAng="10800000" swAng="-5400000"/>
                <a:lnTo>
                  <a:pt x="21595" y="3112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0" y="0"/>
            <a:ext cx="7102440" cy="10234440"/>
          </a:xfrm>
          <a:custGeom>
            <a:avLst/>
            <a:gdLst>
              <a:gd name="textAreaLeft" fmla="*/ 360 w 7102440"/>
              <a:gd name="textAreaRight" fmla="*/ 7102080 w 710244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25">
                <a:moveTo>
                  <a:pt x="5" y="0"/>
                </a:moveTo>
                <a:arcTo wR="5" hR="5" stAng="16200000" swAng="-5400000"/>
                <a:lnTo>
                  <a:pt x="0" y="31120"/>
                </a:lnTo>
                <a:arcTo wR="5" hR="5" stAng="10800000" swAng="-5400000"/>
                <a:lnTo>
                  <a:pt x="21595" y="3112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0" y="0"/>
            <a:ext cx="7102440" cy="10234440"/>
          </a:xfrm>
          <a:custGeom>
            <a:avLst/>
            <a:gdLst>
              <a:gd name="textAreaLeft" fmla="*/ 360 w 7102440"/>
              <a:gd name="textAreaRight" fmla="*/ 7102080 w 710244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25">
                <a:moveTo>
                  <a:pt x="5" y="0"/>
                </a:moveTo>
                <a:arcTo wR="5" hR="5" stAng="16200000" swAng="-5400000"/>
                <a:lnTo>
                  <a:pt x="0" y="31120"/>
                </a:lnTo>
                <a:arcTo wR="5" hR="5" stAng="10800000" swAng="-5400000"/>
                <a:lnTo>
                  <a:pt x="21595" y="3112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0"/>
            <a:ext cx="7102440" cy="10234440"/>
          </a:xfrm>
          <a:custGeom>
            <a:avLst/>
            <a:gdLst>
              <a:gd name="textAreaLeft" fmla="*/ 360 w 7102440"/>
              <a:gd name="textAreaRight" fmla="*/ 7102080 w 710244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25">
                <a:moveTo>
                  <a:pt x="5" y="0"/>
                </a:moveTo>
                <a:arcTo wR="5" hR="5" stAng="16200000" swAng="-5400000"/>
                <a:lnTo>
                  <a:pt x="0" y="31120"/>
                </a:lnTo>
                <a:arcTo wR="5" hR="5" stAng="10800000" swAng="-5400000"/>
                <a:lnTo>
                  <a:pt x="21595" y="3112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0"/>
            <a:ext cx="7102440" cy="10234440"/>
          </a:xfrm>
          <a:custGeom>
            <a:avLst/>
            <a:gdLst>
              <a:gd name="textAreaLeft" fmla="*/ 360 w 7102440"/>
              <a:gd name="textAreaRight" fmla="*/ 7102080 w 710244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25">
                <a:moveTo>
                  <a:pt x="5" y="0"/>
                </a:moveTo>
                <a:arcTo wR="5" hR="5" stAng="16200000" swAng="-5400000"/>
                <a:lnTo>
                  <a:pt x="0" y="31120"/>
                </a:lnTo>
                <a:arcTo wR="5" hR="5" stAng="10800000" swAng="-5400000"/>
                <a:lnTo>
                  <a:pt x="21595" y="3112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-13340160" y="-9233280"/>
            <a:ext cx="26682840" cy="2001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709560" y="4862520"/>
            <a:ext cx="5672160" cy="460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219400" y="777960"/>
            <a:ext cx="2663640" cy="383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body"/>
          </p:nvPr>
        </p:nvSpPr>
        <p:spPr>
          <a:xfrm>
            <a:off x="709560" y="4862520"/>
            <a:ext cx="567360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2219400" y="777960"/>
            <a:ext cx="2663640" cy="383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709560" y="4862520"/>
            <a:ext cx="567360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2219400" y="777960"/>
            <a:ext cx="2663640" cy="383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body"/>
          </p:nvPr>
        </p:nvSpPr>
        <p:spPr>
          <a:xfrm>
            <a:off x="709560" y="4862520"/>
            <a:ext cx="567360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2219400" y="777960"/>
            <a:ext cx="2663640" cy="383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body"/>
          </p:nvPr>
        </p:nvSpPr>
        <p:spPr>
          <a:xfrm>
            <a:off x="709560" y="4862520"/>
            <a:ext cx="567360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2219400" y="777960"/>
            <a:ext cx="2663640" cy="383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body"/>
          </p:nvPr>
        </p:nvSpPr>
        <p:spPr>
          <a:xfrm>
            <a:off x="709560" y="4862520"/>
            <a:ext cx="567360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2219400" y="777960"/>
            <a:ext cx="2663640" cy="383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body"/>
          </p:nvPr>
        </p:nvSpPr>
        <p:spPr>
          <a:xfrm>
            <a:off x="709560" y="4862520"/>
            <a:ext cx="567360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2219400" y="777960"/>
            <a:ext cx="2663640" cy="383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body"/>
          </p:nvPr>
        </p:nvSpPr>
        <p:spPr>
          <a:xfrm>
            <a:off x="709560" y="4862520"/>
            <a:ext cx="567360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2219400" y="777960"/>
            <a:ext cx="2663640" cy="383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body"/>
          </p:nvPr>
        </p:nvSpPr>
        <p:spPr>
          <a:xfrm>
            <a:off x="709560" y="4862520"/>
            <a:ext cx="567360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2219400" y="777960"/>
            <a:ext cx="2663640" cy="383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body"/>
          </p:nvPr>
        </p:nvSpPr>
        <p:spPr>
          <a:xfrm>
            <a:off x="709560" y="4862520"/>
            <a:ext cx="567360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19400" y="777960"/>
            <a:ext cx="2663640" cy="383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body"/>
          </p:nvPr>
        </p:nvSpPr>
        <p:spPr>
          <a:xfrm>
            <a:off x="709560" y="4862520"/>
            <a:ext cx="567360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2219400" y="777960"/>
            <a:ext cx="2663640" cy="383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body"/>
          </p:nvPr>
        </p:nvSpPr>
        <p:spPr>
          <a:xfrm>
            <a:off x="709560" y="4862520"/>
            <a:ext cx="567360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D9834-68AF-469D-9148-5B9083623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79640" indent="0" algn="ctr">
              <a:lnSpc>
                <a:spcPct val="128000"/>
              </a:lnSpc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0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0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E40E6-DF19-4CE3-B2A3-B235836BE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79640" indent="0" algn="ctr">
              <a:lnSpc>
                <a:spcPct val="128000"/>
              </a:lnSpc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11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9200" y="3963600"/>
            <a:ext cx="40111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72256-76BF-43EB-B8DA-12134D002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79640" indent="0" algn="ctr">
              <a:lnSpc>
                <a:spcPct val="128000"/>
              </a:lnSpc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67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6760" y="1600200"/>
            <a:ext cx="26467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5960" y="1600200"/>
            <a:ext cx="26467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67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6760" y="3963600"/>
            <a:ext cx="26467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5960" y="3963600"/>
            <a:ext cx="26467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39046-407E-4F48-A755-EC03B2B91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0FEFA-09B1-40C9-AFCF-E757878DD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79640" indent="0" algn="ctr">
              <a:lnSpc>
                <a:spcPct val="128000"/>
              </a:lnSpc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02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7FA4C-4BD5-4D6C-B497-8EA8CE7CE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79640" indent="0" algn="ctr">
              <a:lnSpc>
                <a:spcPct val="128000"/>
              </a:lnSpc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02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7A8EF-A3D4-4F1A-8D89-8FE56235A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79640" indent="0" algn="ctr">
              <a:lnSpc>
                <a:spcPct val="128000"/>
              </a:lnSpc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BCA6D-40D2-401C-BC3C-DA39B8E8C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79640" indent="0" algn="ctr">
              <a:lnSpc>
                <a:spcPct val="128000"/>
              </a:lnSpc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E97F8-059F-482B-9797-94F575103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024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B46BF-6EED-4805-B1AF-0D06BB652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79640" indent="0" algn="ctr">
              <a:lnSpc>
                <a:spcPct val="128000"/>
              </a:lnSpc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11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6A4BD-8385-4CE7-8BD5-03CD0612F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79640" indent="0" algn="ctr">
              <a:lnSpc>
                <a:spcPct val="128000"/>
              </a:lnSpc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02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C3E05-979A-42E1-908D-DD752C1DD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79640" indent="0" algn="ctr">
              <a:lnSpc>
                <a:spcPct val="128000"/>
              </a:lnSpc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9200" y="3963600"/>
            <a:ext cx="40111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65E9F-E042-4AEA-8E22-43AB111E2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79640" indent="0" algn="ctr">
              <a:lnSpc>
                <a:spcPct val="128000"/>
              </a:lnSpc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0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DB308-152F-41D3-8C7A-1C07F58DB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79640" indent="0" algn="ctr">
              <a:lnSpc>
                <a:spcPct val="128000"/>
              </a:lnSpc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0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0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0183A-9D76-430D-844B-CD0225F4A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79640" indent="0" algn="ctr">
              <a:lnSpc>
                <a:spcPct val="128000"/>
              </a:lnSpc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11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9200" y="3963600"/>
            <a:ext cx="40111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9C4E7-C25C-4AA2-8421-0E52A9D27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79640" indent="0" algn="ctr">
              <a:lnSpc>
                <a:spcPct val="128000"/>
              </a:lnSpc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67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6760" y="1600200"/>
            <a:ext cx="26467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15960" y="1600200"/>
            <a:ext cx="26467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67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6760" y="3963600"/>
            <a:ext cx="26467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15960" y="3963600"/>
            <a:ext cx="26467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C5B21-2DC7-480B-887D-39E700337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79640" indent="0" algn="ctr">
              <a:lnSpc>
                <a:spcPct val="128000"/>
              </a:lnSpc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02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78D5C-DA6F-4910-9551-466A0A3CA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79640" indent="0" algn="ctr">
              <a:lnSpc>
                <a:spcPct val="128000"/>
              </a:lnSpc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AAD20-A073-4D48-A42B-5437EC8F9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79640" indent="0" algn="ctr">
              <a:lnSpc>
                <a:spcPct val="128000"/>
              </a:lnSpc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C4263-F05A-4B97-8C7B-9449AAA65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024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88438-7E4B-4753-AF8D-7C6C9B428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79640" indent="0" algn="ctr">
              <a:lnSpc>
                <a:spcPct val="128000"/>
              </a:lnSpc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11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8257F-DB90-425E-B7FE-D4DC54733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79640" indent="0" algn="ctr">
              <a:lnSpc>
                <a:spcPct val="128000"/>
              </a:lnSpc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9200" y="3963600"/>
            <a:ext cx="40111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E07B2-C459-4941-A18C-0141B82EE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79640" indent="0" algn="ctr">
              <a:lnSpc>
                <a:spcPct val="128000"/>
              </a:lnSpc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0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D3AB0-D1CC-4EDB-B30A-98514D53B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79640" indent="0" algn="ctr">
              <a:lnSpc>
                <a:spcPct val="128000"/>
              </a:lnSpc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02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marL="299880" indent="-299880">
              <a:lnSpc>
                <a:spcPct val="12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59880" indent="-248400">
              <a:lnSpc>
                <a:spcPct val="12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205560">
              <a:lnSpc>
                <a:spcPct val="12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40000" indent="-205560">
              <a:lnSpc>
                <a:spcPct val="12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51480" indent="-205560">
              <a:lnSpc>
                <a:spcPct val="12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51480" indent="-205560">
              <a:lnSpc>
                <a:spcPct val="12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51480" indent="-205560">
              <a:lnSpc>
                <a:spcPct val="12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240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8612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2436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B4D3F0-F157-49A7-8131-FE56D00366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1099CF3-8F59-420C-A987-6CC7FADF3CD0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hyperlink" Target="file:///../../../chainmen__materiales/ocio/por_que/por_que.html" TargetMode="External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hyperlink" Target="file:///../../../chainmen__materiales/ocio/por_que/por_que.html" TargetMode="External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hyperlink" Target="file:///../../../chainmen__materiales/ocio/por_que/por_que.html" TargetMode="External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7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6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slideLayout" Target="../slideLayouts/slideLayout3.xml"/><Relationship Id="rId1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hyperlink" Target="file:///../../../chainmen__materiales/ocio/por_que/por_que.html" TargetMode="External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hyperlink" Target="file:///../../../chainmen__materiales/ocio/por_que/por_que.html" TargetMode="External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hyperlink" Target="file:///../../../chainmen__materiales/ocio/por_que/por_que.html" TargetMode="External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hyperlink" Target="file:///../../../chainmen__materiales/ocio/por_que/por_que.html" TargetMode="External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hyperlink" Target="file:///../../../chainmen__materiales/ocio/por_que/por_que.html" TargetMode="External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hyperlink" Target="file:///../../../chainmen__materiales/ocio/por_que/por_que.html" TargetMode="External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hyperlink" Target="file:///../../../chainmen__materiales/ocio/por_que/por_que.html" TargetMode="External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hyperlink" Target="file:///../../../chainmen__materiales/ocio/por_que/por_que.html" TargetMode="External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345960" y="216000"/>
            <a:ext cx="287280" cy="865080"/>
          </a:xfrm>
          <a:custGeom>
            <a:avLst/>
            <a:gdLst>
              <a:gd name="textAreaLeft" fmla="*/ 14040 w 287280"/>
              <a:gd name="textAreaRight" fmla="*/ 273240 w 287280"/>
              <a:gd name="textAreaTop" fmla="*/ 14040 h 865080"/>
              <a:gd name="textAreaBottom" fmla="*/ 851040 h 865080"/>
            </a:gdLst>
            <a:ahLst/>
            <a:rect l="textAreaLeft" t="textAreaTop" r="textAreaRight" b="textAreaBottom"/>
            <a:pathLst>
              <a:path w="21600" h="64989">
                <a:moveTo>
                  <a:pt x="3600" y="0"/>
                </a:moveTo>
                <a:arcTo wR="3600" hR="3600" stAng="16200000" swAng="-5400000"/>
                <a:lnTo>
                  <a:pt x="0" y="61389"/>
                </a:lnTo>
                <a:arcTo wR="3600" hR="3600" stAng="10800000" swAng="-5400000"/>
                <a:lnTo>
                  <a:pt x="18000" y="649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340000" y="1413000"/>
            <a:ext cx="6118200" cy="1655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lin ang="10800000"/>
          </a:gra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340000" y="4510080"/>
            <a:ext cx="6118200" cy="1655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fffff"/>
              </a:gs>
            </a:gsLst>
            <a:lin ang="10800000"/>
          </a:gra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3309840" y="1860480"/>
            <a:ext cx="493416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1" strike="noStrike">
                <a:ln w="12600">
                  <a:solidFill>
                    <a:srgbClr val="ff9900"/>
                  </a:solidFill>
                  <a:miter/>
                </a:ln>
                <a:solidFill>
                  <a:srgbClr val="ff99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¿ Por qué será... ?</a:t>
            </a:r>
            <a:endParaRPr b="0" lang="en-US" sz="4000" spc="1" strike="noStrike">
              <a:ln w="12600">
                <a:solidFill>
                  <a:srgbClr val="ff9900"/>
                </a:solidFill>
                <a:miter/>
              </a:ln>
              <a:solidFill>
                <a:srgbClr val="ff99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56000" y="5029200"/>
            <a:ext cx="493380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1" strike="noStrike">
                <a:ln w="12600">
                  <a:solidFill>
                    <a:srgbClr val="833c88"/>
                  </a:solidFill>
                  <a:miter/>
                </a:ln>
                <a:solidFill>
                  <a:srgbClr val="c17cc6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¿ Será por ... ?</a:t>
            </a:r>
            <a:endParaRPr b="0" lang="en-US" sz="4000" spc="1" strike="noStrike">
              <a:ln w="12600">
                <a:solidFill>
                  <a:srgbClr val="833c88"/>
                </a:solidFill>
                <a:miter/>
              </a:ln>
              <a:solidFill>
                <a:srgbClr val="c17cc6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3633840" y="3284640"/>
            <a:ext cx="48258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15840">
                  <a:solidFill>
                    <a:srgbClr val="ff99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ff9900"/>
                    </a:gs>
                    <a:gs pos="100000">
                      <a:srgbClr val="ffffff"/>
                    </a:gs>
                  </a:gsLst>
                  <a:lin ang="13500000"/>
                </a:gra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Vl Parte</a:t>
            </a:r>
            <a:endParaRPr b="0" lang="en-US" sz="1800" spc="1" strike="noStrike">
              <a:ln w="15840">
                <a:solidFill>
                  <a:srgbClr val="ff99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50000">
                    <a:srgbClr val="ff9900"/>
                  </a:gs>
                  <a:gs pos="100000">
                    <a:srgbClr val="ffffff"/>
                  </a:gs>
                </a:gsLst>
                <a:lin ang="13500000"/>
              </a:gra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1042920" y="333360"/>
            <a:ext cx="777708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1" strike="noStrike">
                <a:ln w="1260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ff9900">
                        <a:alpha val="80392"/>
                      </a:srgbClr>
                    </a:gs>
                  </a:gsLst>
                  <a:lin ang="5400000"/>
                </a:gradFill>
                <a:effectLst>
                  <a:outerShdw dist="107932" dir="2700000" blurRad="0" rotWithShape="0">
                    <a:srgbClr val="9999ff">
                      <a:alpha val="50000"/>
                    </a:srgbClr>
                  </a:outerShdw>
                </a:effectLst>
                <a:latin typeface="Arial Black"/>
              </a:rPr>
              <a:t>¿ Por qué será...?</a:t>
            </a:r>
            <a:endParaRPr b="0" lang="en-US" sz="4000" spc="1" strike="noStrike">
              <a:ln w="1260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ff9900">
                      <a:alpha val="80392"/>
                    </a:srgbClr>
                  </a:gs>
                </a:gsLst>
                <a:lin ang="5400000"/>
              </a:gradFill>
              <a:effectLst>
                <a:outerShdw dist="107932" dir="2700000" blurRad="0" rotWithShape="0">
                  <a:srgbClr val="9999ff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515880" y="1343160"/>
            <a:ext cx="2040120" cy="50385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406440" y="838080"/>
            <a:ext cx="190440" cy="1908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395280" y="588960"/>
            <a:ext cx="190440" cy="19044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95280" y="266760"/>
            <a:ext cx="190440" cy="19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69 0 0.125 0.07467 0.125 0.16667 C 0.125 0.25867 0.069 0.33333 0 0.33333 C -0.069 0.33333 -0.125 0.25867 -0.125 0.16667 C -0.125 0.07467 -0.069 0 0 0 Z">
                                      <p:cBhvr>
                                        <p:cTn id="6" dur="2000" fill="hold"/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2000"/>
                            </p:stCondLst>
                            <p:childTnLst>
                              <p:par>
                                <p:cTn id="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4000"/>
                            </p:stCondLst>
                            <p:childTnLst>
                              <p:par>
                                <p:cTn id="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5000"/>
                            </p:stCondLst>
                            <p:childTnLst>
                              <p:par>
                                <p:cTn id="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250920" y="0"/>
            <a:ext cx="2340000" cy="6483240"/>
          </a:xfrm>
          <a:custGeom>
            <a:avLst/>
            <a:gdLst>
              <a:gd name="textAreaLeft" fmla="*/ 360 w 2340000"/>
              <a:gd name="textAreaRight" fmla="*/ 2339640 w 2340000"/>
              <a:gd name="textAreaTop" fmla="*/ 360 h 6483240"/>
              <a:gd name="textAreaBottom" fmla="*/ 6482880 h 6483240"/>
            </a:gdLst>
            <a:ahLst/>
            <a:rect l="textAreaLeft" t="textAreaTop" r="textAreaRight" b="textAreaBottom"/>
            <a:pathLst>
              <a:path w="21600" h="59839">
                <a:moveTo>
                  <a:pt x="14" y="0"/>
                </a:moveTo>
                <a:arcTo wR="14" hR="14" stAng="16200000" swAng="-5400000"/>
                <a:lnTo>
                  <a:pt x="0" y="59825"/>
                </a:lnTo>
                <a:arcTo wR="14" hR="14" stAng="10800000" swAng="-5400000"/>
                <a:lnTo>
                  <a:pt x="21586" y="59839"/>
                </a:lnTo>
                <a:arcTo wR="14" hR="14" stAng="5400000" swAng="-5400000"/>
                <a:lnTo>
                  <a:pt x="21600" y="14"/>
                </a:lnTo>
                <a:arcTo wR="14" hR="14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979640" y="1376280"/>
            <a:ext cx="6478560" cy="234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lin ang="10800000"/>
          </a:gra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¿ Por qué  en todas las fabricas a las maquinas, se les cuida mas que a las personas, las engrasan, reparan, pintan y hasta les hacen mantenimiento preventiv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979640" y="3933720"/>
            <a:ext cx="6478560" cy="234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fffff"/>
              </a:gs>
            </a:gsLst>
            <a:lin ang="10800000"/>
          </a:gra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000" spc="-1" strike="noStrike">
                <a:solidFill>
                  <a:srgbClr val="833c88"/>
                </a:solidFill>
                <a:latin typeface="Arial"/>
              </a:rPr>
              <a:t>¿ Será que no se nos nota, ni el cansancio, ni el envejecimiento, o el estrés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000" spc="-1" strike="noStrike">
                <a:solidFill>
                  <a:srgbClr val="833c88"/>
                </a:solidFill>
                <a:latin typeface="Arial"/>
              </a:rPr>
              <a:t>¿ Será que no hay balnearios, tratamientos ni manual de mantenimiento preventivo para mi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000" spc="-1" strike="noStrike">
                <a:solidFill>
                  <a:srgbClr val="833c88"/>
                </a:solidFill>
                <a:latin typeface="Arial"/>
              </a:rPr>
              <a:t>¿ Será que cualquier maquina de mierda, vale 20 años de mi sueldo y como yo, hay un montón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515880" y="1343160"/>
            <a:ext cx="2040120" cy="503856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 txBox="1"/>
          <p:nvPr/>
        </p:nvSpPr>
        <p:spPr>
          <a:xfrm>
            <a:off x="1619280" y="260280"/>
            <a:ext cx="712944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1" strike="noStrike">
                <a:ln w="1260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ff9900">
                        <a:alpha val="80392"/>
                      </a:srgbClr>
                    </a:gs>
                  </a:gsLst>
                  <a:lin ang="5400000"/>
                </a:gradFill>
                <a:effectLst>
                  <a:outerShdw dist="107932" dir="2700000" blurRad="0" rotWithShape="0">
                    <a:srgbClr val="9999ff">
                      <a:alpha val="50000"/>
                    </a:srgbClr>
                  </a:outerShdw>
                </a:effectLst>
                <a:latin typeface="Arial Black"/>
              </a:rPr>
              <a:t>¿ 7º -Por qué será...?</a:t>
            </a:r>
            <a:endParaRPr b="0" lang="en-US" sz="4000" spc="1" strike="noStrike">
              <a:ln w="1260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ff9900">
                      <a:alpha val="80392"/>
                    </a:srgbClr>
                  </a:gs>
                </a:gsLst>
                <a:lin ang="5400000"/>
              </a:gradFill>
              <a:effectLst>
                <a:outerShdw dist="107932" dir="2700000" blurRad="0" rotWithShape="0">
                  <a:srgbClr val="9999ff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77" name=""/>
          <p:cNvSpPr/>
          <p:nvPr/>
        </p:nvSpPr>
        <p:spPr>
          <a:xfrm>
            <a:off x="345960" y="216000"/>
            <a:ext cx="287280" cy="865080"/>
          </a:xfrm>
          <a:custGeom>
            <a:avLst/>
            <a:gdLst>
              <a:gd name="textAreaLeft" fmla="*/ 14040 w 287280"/>
              <a:gd name="textAreaRight" fmla="*/ 273240 w 287280"/>
              <a:gd name="textAreaTop" fmla="*/ 14040 h 865080"/>
              <a:gd name="textAreaBottom" fmla="*/ 851040 h 865080"/>
            </a:gdLst>
            <a:ahLst/>
            <a:rect l="textAreaLeft" t="textAreaTop" r="textAreaRight" b="textAreaBottom"/>
            <a:pathLst>
              <a:path w="21600" h="64989">
                <a:moveTo>
                  <a:pt x="3600" y="0"/>
                </a:moveTo>
                <a:arcTo wR="3600" hR="3600" stAng="16200000" swAng="-5400000"/>
                <a:lnTo>
                  <a:pt x="0" y="61389"/>
                </a:lnTo>
                <a:arcTo wR="3600" hR="3600" stAng="10800000" swAng="-5400000"/>
                <a:lnTo>
                  <a:pt x="18000" y="649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406440" y="838080"/>
            <a:ext cx="190440" cy="19080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395280" y="588960"/>
            <a:ext cx="190440" cy="19044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5"/>
          <a:stretch/>
        </p:blipFill>
        <p:spPr>
          <a:xfrm>
            <a:off x="395280" y="266760"/>
            <a:ext cx="190440" cy="190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500"/>
                            </p:stCondLst>
                            <p:childTnLst>
                              <p:par>
                                <p:cTn id="15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250920" y="0"/>
            <a:ext cx="2340000" cy="6483240"/>
          </a:xfrm>
          <a:custGeom>
            <a:avLst/>
            <a:gdLst>
              <a:gd name="textAreaLeft" fmla="*/ 360 w 2340000"/>
              <a:gd name="textAreaRight" fmla="*/ 2339640 w 2340000"/>
              <a:gd name="textAreaTop" fmla="*/ 360 h 6483240"/>
              <a:gd name="textAreaBottom" fmla="*/ 6482880 h 6483240"/>
            </a:gdLst>
            <a:ahLst/>
            <a:rect l="textAreaLeft" t="textAreaTop" r="textAreaRight" b="textAreaBottom"/>
            <a:pathLst>
              <a:path w="21600" h="59839">
                <a:moveTo>
                  <a:pt x="14" y="0"/>
                </a:moveTo>
                <a:arcTo wR="14" hR="14" stAng="16200000" swAng="-5400000"/>
                <a:lnTo>
                  <a:pt x="0" y="59825"/>
                </a:lnTo>
                <a:arcTo wR="14" hR="14" stAng="10800000" swAng="-5400000"/>
                <a:lnTo>
                  <a:pt x="21586" y="59839"/>
                </a:lnTo>
                <a:arcTo wR="14" hR="14" stAng="5400000" swAng="-5400000"/>
                <a:lnTo>
                  <a:pt x="21600" y="14"/>
                </a:lnTo>
                <a:arcTo wR="14" hR="14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979640" y="1376280"/>
            <a:ext cx="6478560" cy="234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lin ang="10800000"/>
          </a:gra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¿ Por qué dice la Patronal que el 37.6% de los directivos lo único que hacen es bajar el rendimiento de los departamentos que dirigen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979640" y="3933720"/>
            <a:ext cx="6478560" cy="234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fffff"/>
              </a:gs>
            </a:gsLst>
            <a:lin ang="10800000"/>
          </a:gra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833c88"/>
                </a:solidFill>
                <a:latin typeface="Arial"/>
              </a:rPr>
              <a:t>¡Coño! ¿Será cierto?. Datos ya tendrá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833c88"/>
                </a:solidFill>
                <a:latin typeface="Arial"/>
              </a:rPr>
              <a:t>¿ Será que en la mayoría de las empresas no cuentan con  más de 100 directivos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515880" y="1343160"/>
            <a:ext cx="2040120" cy="503856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 txBox="1"/>
          <p:nvPr/>
        </p:nvSpPr>
        <p:spPr>
          <a:xfrm>
            <a:off x="1619280" y="260280"/>
            <a:ext cx="712944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1" strike="noStrike">
                <a:ln w="1260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ff9900">
                        <a:alpha val="80392"/>
                      </a:srgbClr>
                    </a:gs>
                  </a:gsLst>
                  <a:lin ang="5400000"/>
                </a:gradFill>
                <a:effectLst>
                  <a:outerShdw dist="107932" dir="2700000" blurRad="0" rotWithShape="0">
                    <a:srgbClr val="9999ff">
                      <a:alpha val="50000"/>
                    </a:srgbClr>
                  </a:outerShdw>
                </a:effectLst>
                <a:latin typeface="Arial Black"/>
              </a:rPr>
              <a:t>¿ 8º -Por qué será...?</a:t>
            </a:r>
            <a:endParaRPr b="0" lang="en-US" sz="4000" spc="1" strike="noStrike">
              <a:ln w="1260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ff9900">
                      <a:alpha val="80392"/>
                    </a:srgbClr>
                  </a:gs>
                </a:gsLst>
                <a:lin ang="5400000"/>
              </a:gradFill>
              <a:effectLst>
                <a:outerShdw dist="107932" dir="2700000" blurRad="0" rotWithShape="0">
                  <a:srgbClr val="9999ff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86" name=""/>
          <p:cNvSpPr/>
          <p:nvPr/>
        </p:nvSpPr>
        <p:spPr>
          <a:xfrm>
            <a:off x="345960" y="216000"/>
            <a:ext cx="287280" cy="865080"/>
          </a:xfrm>
          <a:custGeom>
            <a:avLst/>
            <a:gdLst>
              <a:gd name="textAreaLeft" fmla="*/ 14040 w 287280"/>
              <a:gd name="textAreaRight" fmla="*/ 273240 w 287280"/>
              <a:gd name="textAreaTop" fmla="*/ 14040 h 865080"/>
              <a:gd name="textAreaBottom" fmla="*/ 851040 h 865080"/>
            </a:gdLst>
            <a:ahLst/>
            <a:rect l="textAreaLeft" t="textAreaTop" r="textAreaRight" b="textAreaBottom"/>
            <a:pathLst>
              <a:path w="21600" h="64989">
                <a:moveTo>
                  <a:pt x="3600" y="0"/>
                </a:moveTo>
                <a:arcTo wR="3600" hR="3600" stAng="16200000" swAng="-5400000"/>
                <a:lnTo>
                  <a:pt x="0" y="61389"/>
                </a:lnTo>
                <a:arcTo wR="3600" hR="3600" stAng="10800000" swAng="-5400000"/>
                <a:lnTo>
                  <a:pt x="18000" y="649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406440" y="838080"/>
            <a:ext cx="190440" cy="19080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395280" y="588960"/>
            <a:ext cx="190440" cy="19044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95280" y="266760"/>
            <a:ext cx="190440" cy="190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4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500"/>
                            </p:stCondLst>
                            <p:childTnLst>
                              <p:par>
                                <p:cTn id="16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250920" y="0"/>
            <a:ext cx="2340000" cy="6483240"/>
          </a:xfrm>
          <a:custGeom>
            <a:avLst/>
            <a:gdLst>
              <a:gd name="textAreaLeft" fmla="*/ 360 w 2340000"/>
              <a:gd name="textAreaRight" fmla="*/ 2339640 w 2340000"/>
              <a:gd name="textAreaTop" fmla="*/ 360 h 6483240"/>
              <a:gd name="textAreaBottom" fmla="*/ 6482880 h 6483240"/>
            </a:gdLst>
            <a:ahLst/>
            <a:rect l="textAreaLeft" t="textAreaTop" r="textAreaRight" b="textAreaBottom"/>
            <a:pathLst>
              <a:path w="21600" h="59839">
                <a:moveTo>
                  <a:pt x="14" y="0"/>
                </a:moveTo>
                <a:arcTo wR="14" hR="14" stAng="16200000" swAng="-5400000"/>
                <a:lnTo>
                  <a:pt x="0" y="59825"/>
                </a:lnTo>
                <a:arcTo wR="14" hR="14" stAng="10800000" swAng="-5400000"/>
                <a:lnTo>
                  <a:pt x="21586" y="59839"/>
                </a:lnTo>
                <a:arcTo wR="14" hR="14" stAng="5400000" swAng="-5400000"/>
                <a:lnTo>
                  <a:pt x="21600" y="14"/>
                </a:lnTo>
                <a:arcTo wR="14" hR="14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979640" y="1376280"/>
            <a:ext cx="6478560" cy="4932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¿ Por qué será que me encuentro reflejado en tantos “Por qué …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833c88"/>
                </a:solidFill>
                <a:latin typeface="Arial"/>
              </a:rPr>
              <a:t>¿ Será que soy humano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833c88"/>
                </a:solidFill>
                <a:latin typeface="Arial"/>
              </a:rPr>
              <a:t>¿Será que los demás no me entienden 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833c88"/>
                </a:solidFill>
                <a:latin typeface="Arial"/>
              </a:rPr>
              <a:t>¿Será que soy un cabrito 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4000" spc="-1" strike="noStrike">
                <a:solidFill>
                  <a:srgbClr val="833c88"/>
                </a:solidFill>
                <a:latin typeface="Arial"/>
              </a:rPr>
              <a:t>¡¡ Coño !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833c88"/>
                </a:solidFill>
                <a:latin typeface="Arial"/>
              </a:rPr>
              <a:t>¿ Y Por qué me quito años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515880" y="1343160"/>
            <a:ext cx="2040120" cy="503856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 txBox="1"/>
          <p:nvPr/>
        </p:nvSpPr>
        <p:spPr>
          <a:xfrm>
            <a:off x="1619280" y="276120"/>
            <a:ext cx="712944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1" strike="noStrike">
                <a:ln w="1260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ff9900">
                        <a:alpha val="80392"/>
                      </a:srgbClr>
                    </a:gs>
                  </a:gsLst>
                  <a:lin ang="5400000"/>
                </a:gradFill>
                <a:effectLst>
                  <a:outerShdw dist="107932" dir="2700000" blurRad="0" rotWithShape="0">
                    <a:srgbClr val="9999ff">
                      <a:alpha val="50000"/>
                    </a:srgbClr>
                  </a:outerShdw>
                </a:effectLst>
                <a:latin typeface="Arial Black"/>
              </a:rPr>
              <a:t>¿ Por qué será...?</a:t>
            </a:r>
            <a:endParaRPr b="0" lang="en-US" sz="4000" spc="1" strike="noStrike">
              <a:ln w="1260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ff9900">
                      <a:alpha val="80392"/>
                    </a:srgbClr>
                  </a:gs>
                </a:gsLst>
                <a:lin ang="5400000"/>
              </a:gradFill>
              <a:effectLst>
                <a:outerShdw dist="107932" dir="2700000" blurRad="0" rotWithShape="0">
                  <a:srgbClr val="9999ff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94" name=""/>
          <p:cNvSpPr/>
          <p:nvPr/>
        </p:nvSpPr>
        <p:spPr>
          <a:xfrm>
            <a:off x="345960" y="216000"/>
            <a:ext cx="287280" cy="865080"/>
          </a:xfrm>
          <a:custGeom>
            <a:avLst/>
            <a:gdLst>
              <a:gd name="textAreaLeft" fmla="*/ 14040 w 287280"/>
              <a:gd name="textAreaRight" fmla="*/ 273240 w 287280"/>
              <a:gd name="textAreaTop" fmla="*/ 14040 h 865080"/>
              <a:gd name="textAreaBottom" fmla="*/ 851040 h 865080"/>
            </a:gdLst>
            <a:ahLst/>
            <a:rect l="textAreaLeft" t="textAreaTop" r="textAreaRight" b="textAreaBottom"/>
            <a:pathLst>
              <a:path w="21600" h="64989">
                <a:moveTo>
                  <a:pt x="3600" y="0"/>
                </a:moveTo>
                <a:arcTo wR="3600" hR="3600" stAng="16200000" swAng="-5400000"/>
                <a:lnTo>
                  <a:pt x="0" y="61389"/>
                </a:lnTo>
                <a:arcTo wR="3600" hR="3600" stAng="10800000" swAng="-5400000"/>
                <a:lnTo>
                  <a:pt x="18000" y="649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406440" y="838080"/>
            <a:ext cx="190440" cy="19080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395280" y="588960"/>
            <a:ext cx="190440" cy="19044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95280" y="266760"/>
            <a:ext cx="190440" cy="190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9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2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904120" y="5791680"/>
            <a:ext cx="1910520" cy="3909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Anterior álb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57120" y="200160"/>
            <a:ext cx="287280" cy="865080"/>
          </a:xfrm>
          <a:custGeom>
            <a:avLst/>
            <a:gdLst>
              <a:gd name="textAreaLeft" fmla="*/ 14040 w 287280"/>
              <a:gd name="textAreaRight" fmla="*/ 273240 w 287280"/>
              <a:gd name="textAreaTop" fmla="*/ 14040 h 865080"/>
              <a:gd name="textAreaBottom" fmla="*/ 851040 h 865080"/>
            </a:gdLst>
            <a:ahLst/>
            <a:rect l="textAreaLeft" t="textAreaTop" r="textAreaRight" b="textAreaBottom"/>
            <a:pathLst>
              <a:path w="21600" h="64989">
                <a:moveTo>
                  <a:pt x="3600" y="0"/>
                </a:moveTo>
                <a:arcTo wR="3600" hR="3600" stAng="16200000" swAng="-5400000"/>
                <a:lnTo>
                  <a:pt x="0" y="61389"/>
                </a:lnTo>
                <a:arcTo wR="3600" hR="3600" stAng="10800000" swAng="-5400000"/>
                <a:lnTo>
                  <a:pt x="18000" y="649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50920" y="620640"/>
            <a:ext cx="1946160" cy="5394240"/>
          </a:xfrm>
          <a:custGeom>
            <a:avLst/>
            <a:gdLst>
              <a:gd name="textAreaLeft" fmla="*/ 360 w 1946160"/>
              <a:gd name="textAreaRight" fmla="*/ 1945800 w 1946160"/>
              <a:gd name="textAreaTop" fmla="*/ 360 h 5394240"/>
              <a:gd name="textAreaBottom" fmla="*/ 5393880 h 5394240"/>
            </a:gdLst>
            <a:ahLst/>
            <a:rect l="textAreaLeft" t="textAreaTop" r="textAreaRight" b="textAreaBottom"/>
            <a:pathLst>
              <a:path w="21600" h="59862">
                <a:moveTo>
                  <a:pt x="17" y="0"/>
                </a:moveTo>
                <a:arcTo wR="17" hR="17" stAng="16200000" swAng="-5400000"/>
                <a:lnTo>
                  <a:pt x="0" y="59845"/>
                </a:lnTo>
                <a:arcTo wR="17" hR="17" stAng="10800000" swAng="-5400000"/>
                <a:lnTo>
                  <a:pt x="21583" y="59862"/>
                </a:lnTo>
                <a:arcTo wR="17" hR="17" stAng="5400000" swAng="-5400000"/>
                <a:lnTo>
                  <a:pt x="21600" y="17"/>
                </a:lnTo>
                <a:arcTo wR="17" hR="17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908000" y="2924280"/>
            <a:ext cx="6624720" cy="22334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47662"/>
              </a:avLst>
            </a:prstTxWarp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¡ Jodo cuantas cosas desconozco !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02" name=""/>
          <p:cNvSpPr/>
          <p:nvPr/>
        </p:nvSpPr>
        <p:spPr>
          <a:xfrm>
            <a:off x="250920" y="0"/>
            <a:ext cx="2340000" cy="6483240"/>
          </a:xfrm>
          <a:custGeom>
            <a:avLst/>
            <a:gdLst>
              <a:gd name="textAreaLeft" fmla="*/ 360 w 2340000"/>
              <a:gd name="textAreaRight" fmla="*/ 2339640 w 2340000"/>
              <a:gd name="textAreaTop" fmla="*/ 360 h 6483240"/>
              <a:gd name="textAreaBottom" fmla="*/ 6482880 h 6483240"/>
            </a:gdLst>
            <a:ahLst/>
            <a:rect l="textAreaLeft" t="textAreaTop" r="textAreaRight" b="textAreaBottom"/>
            <a:pathLst>
              <a:path w="21600" h="59839">
                <a:moveTo>
                  <a:pt x="14" y="0"/>
                </a:moveTo>
                <a:arcTo wR="14" hR="14" stAng="16200000" swAng="-5400000"/>
                <a:lnTo>
                  <a:pt x="0" y="59825"/>
                </a:lnTo>
                <a:arcTo wR="14" hR="14" stAng="10800000" swAng="-5400000"/>
                <a:lnTo>
                  <a:pt x="21586" y="59839"/>
                </a:lnTo>
                <a:arcTo wR="14" hR="14" stAng="5400000" swAng="-5400000"/>
                <a:lnTo>
                  <a:pt x="21600" y="14"/>
                </a:lnTo>
                <a:arcTo wR="14" hR="14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2"/>
          <a:stretch/>
        </p:blipFill>
        <p:spPr>
          <a:xfrm>
            <a:off x="515880" y="1343160"/>
            <a:ext cx="2040120" cy="503856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>
            <a:off x="3419640" y="4869000"/>
            <a:ext cx="3809880" cy="3427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>
            <a:hlinkClick r:id="" action="ppaction://hlinkshowjump?jump=firstslide"/>
          </p:cNvPr>
          <p:cNvPicPr/>
          <p:nvPr/>
        </p:nvPicPr>
        <p:blipFill>
          <a:blip r:embed="rId4"/>
          <a:stretch/>
        </p:blipFill>
        <p:spPr>
          <a:xfrm>
            <a:off x="395280" y="841320"/>
            <a:ext cx="190440" cy="19044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>
            <a:hlinkClick r:id="" action="ppaction://hlinkshowjump?jump=previousslide"/>
          </p:cNvPr>
          <p:cNvPicPr/>
          <p:nvPr/>
        </p:nvPicPr>
        <p:blipFill>
          <a:blip r:embed="rId5"/>
          <a:stretch/>
        </p:blipFill>
        <p:spPr>
          <a:xfrm>
            <a:off x="395280" y="588960"/>
            <a:ext cx="190440" cy="19044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3203640" y="5013360"/>
            <a:ext cx="190440" cy="19044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>
            <a:hlinkClick r:id="" action="ppaction://hlinkshowjump?jump=endshow"/>
          </p:cNvPr>
          <p:cNvPicPr/>
          <p:nvPr/>
        </p:nvPicPr>
        <p:blipFill>
          <a:blip r:embed="rId7"/>
          <a:stretch/>
        </p:blipFill>
        <p:spPr>
          <a:xfrm>
            <a:off x="8675640" y="18900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8"/>
          <a:stretch/>
        </p:blipFill>
        <p:spPr>
          <a:xfrm>
            <a:off x="395280" y="266760"/>
            <a:ext cx="190440" cy="19044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 txBox="1"/>
          <p:nvPr/>
        </p:nvSpPr>
        <p:spPr>
          <a:xfrm>
            <a:off x="1332000" y="276120"/>
            <a:ext cx="712944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1" strike="noStrike">
                <a:ln w="1260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ff9900">
                        <a:alpha val="80392"/>
                      </a:srgbClr>
                    </a:gs>
                  </a:gsLst>
                  <a:lin ang="5400000"/>
                </a:gradFill>
                <a:effectLst>
                  <a:outerShdw dist="107932" dir="2700000" blurRad="0" rotWithShape="0">
                    <a:srgbClr val="9999ff">
                      <a:alpha val="50000"/>
                    </a:srgbClr>
                  </a:outerShdw>
                </a:effectLst>
                <a:latin typeface="Arial Black"/>
              </a:rPr>
              <a:t>¿ Por qué será...?</a:t>
            </a:r>
            <a:endParaRPr b="0" lang="en-US" sz="4000" spc="1" strike="noStrike">
              <a:ln w="1260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ff9900">
                      <a:alpha val="80392"/>
                    </a:srgbClr>
                  </a:gs>
                </a:gsLst>
                <a:lin ang="5400000"/>
              </a:gradFill>
              <a:effectLst>
                <a:outerShdw dist="107932" dir="2700000" blurRad="0" rotWithShape="0">
                  <a:srgbClr val="9999ff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211" name="" descr="">
            <a:hlinkClick r:id="" action="ppaction://hlinkshowjump?jump=endshow"/>
          </p:cNvPr>
          <p:cNvPicPr/>
          <p:nvPr/>
        </p:nvPicPr>
        <p:blipFill>
          <a:blip r:embed="rId9"/>
          <a:stretch/>
        </p:blipFill>
        <p:spPr>
          <a:xfrm>
            <a:off x="8664480" y="630864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10"/>
          <a:stretch/>
        </p:blipFill>
        <p:spPr>
          <a:xfrm>
            <a:off x="3056040" y="5888160"/>
            <a:ext cx="190440" cy="1904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5436720" y="5793480"/>
            <a:ext cx="2044080" cy="3909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Siguiente álbum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1"/>
          <a:stretch/>
        </p:blipFill>
        <p:spPr>
          <a:xfrm>
            <a:off x="7093080" y="5877000"/>
            <a:ext cx="190440" cy="190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2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000"/>
                            </p:stCondLst>
                            <p:childTnLst>
                              <p:par>
                                <p:cTn id="197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3000"/>
                            </p:stCondLst>
                            <p:childTnLst>
                              <p:par>
                                <p:cTn id="20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4000"/>
                            </p:stCondLst>
                            <p:childTnLst>
                              <p:par>
                                <p:cTn id="207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6000"/>
                            </p:stCondLst>
                            <p:childTnLst>
                              <p:par>
                                <p:cTn id="21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45960" y="216000"/>
            <a:ext cx="287280" cy="865080"/>
          </a:xfrm>
          <a:custGeom>
            <a:avLst/>
            <a:gdLst>
              <a:gd name="textAreaLeft" fmla="*/ 14040 w 287280"/>
              <a:gd name="textAreaRight" fmla="*/ 273240 w 287280"/>
              <a:gd name="textAreaTop" fmla="*/ 14040 h 865080"/>
              <a:gd name="textAreaBottom" fmla="*/ 851040 h 865080"/>
            </a:gdLst>
            <a:ahLst/>
            <a:rect l="textAreaLeft" t="textAreaTop" r="textAreaRight" b="textAreaBottom"/>
            <a:pathLst>
              <a:path w="21600" h="64989">
                <a:moveTo>
                  <a:pt x="3600" y="0"/>
                </a:moveTo>
                <a:arcTo wR="3600" hR="3600" stAng="16200000" swAng="-5400000"/>
                <a:lnTo>
                  <a:pt x="0" y="61389"/>
                </a:lnTo>
                <a:arcTo wR="3600" hR="3600" stAng="10800000" swAng="-5400000"/>
                <a:lnTo>
                  <a:pt x="18000" y="649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338560" y="1341360"/>
            <a:ext cx="6337080" cy="4897440"/>
          </a:xfrm>
          <a:prstGeom prst="roundRect">
            <a:avLst>
              <a:gd name="adj" fmla="val 761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3200" spc="-1" strike="noStrike">
                <a:solidFill>
                  <a:srgbClr val="9900cc"/>
                </a:solidFill>
                <a:latin typeface="Arial"/>
              </a:rPr>
              <a:t>Todo lo que a continuación  intento exponer, es fruto de mi experiencia. Acumulada, en 61 años de vida natural, con 45 de labor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000" spc="-1" strike="noStrike">
                <a:solidFill>
                  <a:srgbClr val="ff9900"/>
                </a:solidFill>
                <a:latin typeface="Arial"/>
              </a:rPr>
              <a:t>                                                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J. M. Lator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15880" y="1343160"/>
            <a:ext cx="2040120" cy="503856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 txBox="1"/>
          <p:nvPr/>
        </p:nvSpPr>
        <p:spPr>
          <a:xfrm>
            <a:off x="755640" y="260280"/>
            <a:ext cx="777708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1" strike="noStrike">
                <a:ln w="1260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ff9900">
                        <a:alpha val="80392"/>
                      </a:srgbClr>
                    </a:gs>
                  </a:gsLst>
                  <a:lin ang="5400000"/>
                </a:gradFill>
                <a:effectLst>
                  <a:outerShdw dist="107932" dir="2700000" blurRad="0" rotWithShape="0">
                    <a:srgbClr val="9999ff">
                      <a:alpha val="50000"/>
                    </a:srgbClr>
                  </a:outerShdw>
                </a:effectLst>
                <a:latin typeface="Arial Black"/>
              </a:rPr>
              <a:t>¿ Por qué será...?</a:t>
            </a:r>
            <a:endParaRPr b="0" lang="en-US" sz="4000" spc="1" strike="noStrike">
              <a:ln w="1260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ff9900">
                      <a:alpha val="80392"/>
                    </a:srgbClr>
                  </a:gs>
                </a:gsLst>
                <a:lin ang="5400000"/>
              </a:gradFill>
              <a:effectLst>
                <a:outerShdw dist="107932" dir="2700000" blurRad="0" rotWithShape="0">
                  <a:srgbClr val="9999ff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2268360" y="4437000"/>
            <a:ext cx="6121440" cy="1440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48574"/>
              </a:avLst>
            </a:prstTxWarp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¿O será mi imaginación ?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06" name="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406440" y="838080"/>
            <a:ext cx="190440" cy="1908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395280" y="588960"/>
            <a:ext cx="190440" cy="19044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95280" y="266760"/>
            <a:ext cx="190440" cy="19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250920" y="0"/>
            <a:ext cx="2340000" cy="6483240"/>
          </a:xfrm>
          <a:custGeom>
            <a:avLst/>
            <a:gdLst>
              <a:gd name="textAreaLeft" fmla="*/ 360 w 2340000"/>
              <a:gd name="textAreaRight" fmla="*/ 2339640 w 2340000"/>
              <a:gd name="textAreaTop" fmla="*/ 360 h 6483240"/>
              <a:gd name="textAreaBottom" fmla="*/ 6482880 h 6483240"/>
            </a:gdLst>
            <a:ahLst/>
            <a:rect l="textAreaLeft" t="textAreaTop" r="textAreaRight" b="textAreaBottom"/>
            <a:pathLst>
              <a:path w="21600" h="59839">
                <a:moveTo>
                  <a:pt x="14" y="0"/>
                </a:moveTo>
                <a:arcTo wR="14" hR="14" stAng="16200000" swAng="-5400000"/>
                <a:lnTo>
                  <a:pt x="0" y="59825"/>
                </a:lnTo>
                <a:arcTo wR="14" hR="14" stAng="10800000" swAng="-5400000"/>
                <a:lnTo>
                  <a:pt x="21586" y="59839"/>
                </a:lnTo>
                <a:arcTo wR="14" hR="14" stAng="5400000" swAng="-5400000"/>
                <a:lnTo>
                  <a:pt x="21600" y="14"/>
                </a:lnTo>
                <a:arcTo wR="14" hR="14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979640" y="1376280"/>
            <a:ext cx="6478560" cy="234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lin ang="10800000"/>
          </a:gra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¿ Por qué fijándote en el muñeco de la izquierda, compruebas que a pesar de ser de oro, tiene una proyección morada y una sombra, tan negra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79640" y="3933720"/>
            <a:ext cx="6478560" cy="234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fffff"/>
              </a:gs>
            </a:gsLst>
            <a:lin ang="10800000"/>
          </a:gra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833c88"/>
                </a:solidFill>
                <a:latin typeface="Arial"/>
              </a:rPr>
              <a:t>¿ Será que es un misterio de la física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833c88"/>
                </a:solidFill>
                <a:latin typeface="Arial"/>
              </a:rPr>
              <a:t>¿ Será que algunos nacemos así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833c88"/>
                </a:solidFill>
                <a:latin typeface="Arial"/>
              </a:rPr>
              <a:t>¿Será solo un efecto óptico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515880" y="1343160"/>
            <a:ext cx="2040120" cy="503856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 txBox="1"/>
          <p:nvPr/>
        </p:nvSpPr>
        <p:spPr>
          <a:xfrm>
            <a:off x="1619280" y="260280"/>
            <a:ext cx="712944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1" strike="noStrike">
                <a:ln w="1260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ff9900">
                        <a:alpha val="80392"/>
                      </a:srgbClr>
                    </a:gs>
                  </a:gsLst>
                  <a:lin ang="5400000"/>
                </a:gradFill>
                <a:effectLst>
                  <a:outerShdw dist="107932" dir="2700000" blurRad="0" rotWithShape="0">
                    <a:srgbClr val="9999ff">
                      <a:alpha val="50000"/>
                    </a:srgbClr>
                  </a:outerShdw>
                </a:effectLst>
                <a:latin typeface="Arial Black"/>
              </a:rPr>
              <a:t>¿ 0º -Por qué será...?</a:t>
            </a:r>
            <a:endParaRPr b="0" lang="en-US" sz="4000" spc="1" strike="noStrike">
              <a:ln w="1260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ff9900">
                      <a:alpha val="80392"/>
                    </a:srgbClr>
                  </a:gs>
                </a:gsLst>
                <a:lin ang="5400000"/>
              </a:gradFill>
              <a:effectLst>
                <a:outerShdw dist="107932" dir="2700000" blurRad="0" rotWithShape="0">
                  <a:srgbClr val="9999ff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14" name=""/>
          <p:cNvSpPr/>
          <p:nvPr/>
        </p:nvSpPr>
        <p:spPr>
          <a:xfrm>
            <a:off x="345960" y="216000"/>
            <a:ext cx="287280" cy="865080"/>
          </a:xfrm>
          <a:custGeom>
            <a:avLst/>
            <a:gdLst>
              <a:gd name="textAreaLeft" fmla="*/ 14040 w 287280"/>
              <a:gd name="textAreaRight" fmla="*/ 273240 w 287280"/>
              <a:gd name="textAreaTop" fmla="*/ 14040 h 865080"/>
              <a:gd name="textAreaBottom" fmla="*/ 851040 h 865080"/>
            </a:gdLst>
            <a:ahLst/>
            <a:rect l="textAreaLeft" t="textAreaTop" r="textAreaRight" b="textAreaBottom"/>
            <a:pathLst>
              <a:path w="21600" h="64989">
                <a:moveTo>
                  <a:pt x="3600" y="0"/>
                </a:moveTo>
                <a:arcTo wR="3600" hR="3600" stAng="16200000" swAng="-5400000"/>
                <a:lnTo>
                  <a:pt x="0" y="61389"/>
                </a:lnTo>
                <a:arcTo wR="3600" hR="3600" stAng="10800000" swAng="-5400000"/>
                <a:lnTo>
                  <a:pt x="18000" y="649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406440" y="838080"/>
            <a:ext cx="190440" cy="1908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395280" y="588960"/>
            <a:ext cx="190440" cy="19044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95280" y="266760"/>
            <a:ext cx="190440" cy="190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250920" y="0"/>
            <a:ext cx="2340000" cy="6483240"/>
          </a:xfrm>
          <a:custGeom>
            <a:avLst/>
            <a:gdLst>
              <a:gd name="textAreaLeft" fmla="*/ 360 w 2340000"/>
              <a:gd name="textAreaRight" fmla="*/ 2339640 w 2340000"/>
              <a:gd name="textAreaTop" fmla="*/ 360 h 6483240"/>
              <a:gd name="textAreaBottom" fmla="*/ 6482880 h 6483240"/>
            </a:gdLst>
            <a:ahLst/>
            <a:rect l="textAreaLeft" t="textAreaTop" r="textAreaRight" b="textAreaBottom"/>
            <a:pathLst>
              <a:path w="21600" h="59839">
                <a:moveTo>
                  <a:pt x="14" y="0"/>
                </a:moveTo>
                <a:arcTo wR="14" hR="14" stAng="16200000" swAng="-5400000"/>
                <a:lnTo>
                  <a:pt x="0" y="59825"/>
                </a:lnTo>
                <a:arcTo wR="14" hR="14" stAng="10800000" swAng="-5400000"/>
                <a:lnTo>
                  <a:pt x="21586" y="59839"/>
                </a:lnTo>
                <a:arcTo wR="14" hR="14" stAng="5400000" swAng="-5400000"/>
                <a:lnTo>
                  <a:pt x="21600" y="14"/>
                </a:lnTo>
                <a:arcTo wR="14" hR="14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979640" y="1376280"/>
            <a:ext cx="6478560" cy="234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lin ang="10800000"/>
          </a:gra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¿Por qué no logramos mejores resultados, con los departamentos empresariales, que con los “Equipos de trabajo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979640" y="3933720"/>
            <a:ext cx="6478560" cy="234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fffff"/>
              </a:gs>
            </a:gsLst>
            <a:lin ang="10800000"/>
          </a:gra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000" spc="-1" strike="noStrike">
                <a:solidFill>
                  <a:srgbClr val="833c88"/>
                </a:solidFill>
                <a:latin typeface="Arial"/>
              </a:rPr>
              <a:t>¿Será que los departamentos son más pequeños que los equipo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000" spc="-1" strike="noStrike">
                <a:solidFill>
                  <a:srgbClr val="833c88"/>
                </a:solidFill>
                <a:latin typeface="Arial"/>
              </a:rPr>
              <a:t>¿Será que tienen menos medio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000" spc="-1" strike="noStrike">
                <a:solidFill>
                  <a:srgbClr val="833c88"/>
                </a:solidFill>
                <a:latin typeface="Arial"/>
              </a:rPr>
              <a:t>¿Será que en los departamentos igual no hay personas afines, ni voluntarios y encima al líder siempre te lo impondrá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515880" y="1343160"/>
            <a:ext cx="2040120" cy="503856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 txBox="1"/>
          <p:nvPr/>
        </p:nvSpPr>
        <p:spPr>
          <a:xfrm>
            <a:off x="1619280" y="260280"/>
            <a:ext cx="712944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1" strike="noStrike">
                <a:ln w="1260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ff9900">
                        <a:alpha val="80392"/>
                      </a:srgbClr>
                    </a:gs>
                  </a:gsLst>
                  <a:lin ang="5400000"/>
                </a:gradFill>
                <a:effectLst>
                  <a:outerShdw dist="107932" dir="2700000" blurRad="0" rotWithShape="0">
                    <a:srgbClr val="9999ff">
                      <a:alpha val="50000"/>
                    </a:srgbClr>
                  </a:outerShdw>
                </a:effectLst>
                <a:latin typeface="Arial Black"/>
              </a:rPr>
              <a:t>¿ 1º -Por qué será...?</a:t>
            </a:r>
            <a:endParaRPr b="0" lang="en-US" sz="4000" spc="1" strike="noStrike">
              <a:ln w="1260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ff9900">
                      <a:alpha val="80392"/>
                    </a:srgbClr>
                  </a:gs>
                </a:gsLst>
                <a:lin ang="5400000"/>
              </a:gradFill>
              <a:effectLst>
                <a:outerShdw dist="107932" dir="2700000" blurRad="0" rotWithShape="0">
                  <a:srgbClr val="9999ff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23" name=""/>
          <p:cNvSpPr/>
          <p:nvPr/>
        </p:nvSpPr>
        <p:spPr>
          <a:xfrm>
            <a:off x="345960" y="216000"/>
            <a:ext cx="287280" cy="865080"/>
          </a:xfrm>
          <a:custGeom>
            <a:avLst/>
            <a:gdLst>
              <a:gd name="textAreaLeft" fmla="*/ 14040 w 287280"/>
              <a:gd name="textAreaRight" fmla="*/ 273240 w 287280"/>
              <a:gd name="textAreaTop" fmla="*/ 14040 h 865080"/>
              <a:gd name="textAreaBottom" fmla="*/ 851040 h 865080"/>
            </a:gdLst>
            <a:ahLst/>
            <a:rect l="textAreaLeft" t="textAreaTop" r="textAreaRight" b="textAreaBottom"/>
            <a:pathLst>
              <a:path w="21600" h="64989">
                <a:moveTo>
                  <a:pt x="3600" y="0"/>
                </a:moveTo>
                <a:arcTo wR="3600" hR="3600" stAng="16200000" swAng="-5400000"/>
                <a:lnTo>
                  <a:pt x="0" y="61389"/>
                </a:lnTo>
                <a:arcTo wR="3600" hR="3600" stAng="10800000" swAng="-5400000"/>
                <a:lnTo>
                  <a:pt x="18000" y="649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406440" y="838080"/>
            <a:ext cx="190440" cy="1908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395280" y="588960"/>
            <a:ext cx="190440" cy="19044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95280" y="266760"/>
            <a:ext cx="190440" cy="190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500"/>
                            </p:stCondLst>
                            <p:childTnLst>
                              <p:par>
                                <p:cTn id="6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250920" y="0"/>
            <a:ext cx="2340000" cy="6483240"/>
          </a:xfrm>
          <a:custGeom>
            <a:avLst/>
            <a:gdLst>
              <a:gd name="textAreaLeft" fmla="*/ 360 w 2340000"/>
              <a:gd name="textAreaRight" fmla="*/ 2339640 w 2340000"/>
              <a:gd name="textAreaTop" fmla="*/ 360 h 6483240"/>
              <a:gd name="textAreaBottom" fmla="*/ 6482880 h 6483240"/>
            </a:gdLst>
            <a:ahLst/>
            <a:rect l="textAreaLeft" t="textAreaTop" r="textAreaRight" b="textAreaBottom"/>
            <a:pathLst>
              <a:path w="21600" h="59839">
                <a:moveTo>
                  <a:pt x="14" y="0"/>
                </a:moveTo>
                <a:arcTo wR="14" hR="14" stAng="16200000" swAng="-5400000"/>
                <a:lnTo>
                  <a:pt x="0" y="59825"/>
                </a:lnTo>
                <a:arcTo wR="14" hR="14" stAng="10800000" swAng="-5400000"/>
                <a:lnTo>
                  <a:pt x="21586" y="59839"/>
                </a:lnTo>
                <a:arcTo wR="14" hR="14" stAng="5400000" swAng="-5400000"/>
                <a:lnTo>
                  <a:pt x="21600" y="14"/>
                </a:lnTo>
                <a:arcTo wR="14" hR="14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979640" y="1376280"/>
            <a:ext cx="6478560" cy="234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lin ang="10800000"/>
          </a:gra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¿Por qué se repiten tanto estas fras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¿Esta a escuadra? ¡No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¿Esta a nivel? ¡No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¡Entonces clava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79640" y="3933720"/>
            <a:ext cx="6478560" cy="234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fffff"/>
              </a:gs>
            </a:gsLst>
            <a:lin ang="10800000"/>
          </a:gra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833c88"/>
                </a:solidFill>
                <a:latin typeface="Arial"/>
              </a:rPr>
              <a:t>¿Será una nueva forma de trabaja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833c88"/>
                </a:solidFill>
                <a:latin typeface="Arial"/>
              </a:rPr>
              <a:t>¿Será una nueva forma de manda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833c88"/>
                </a:solidFill>
                <a:latin typeface="Arial"/>
              </a:rPr>
              <a:t>¿Será que “nos la suda” y todo nos da igua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515880" y="1343160"/>
            <a:ext cx="2040120" cy="5038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 txBox="1"/>
          <p:nvPr/>
        </p:nvSpPr>
        <p:spPr>
          <a:xfrm>
            <a:off x="1619280" y="260280"/>
            <a:ext cx="712944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1" strike="noStrike">
                <a:ln w="1260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ff9900">
                        <a:alpha val="80392"/>
                      </a:srgbClr>
                    </a:gs>
                  </a:gsLst>
                  <a:lin ang="5400000"/>
                </a:gradFill>
                <a:effectLst>
                  <a:outerShdw dist="107932" dir="2700000" blurRad="0" rotWithShape="0">
                    <a:srgbClr val="9999ff">
                      <a:alpha val="50000"/>
                    </a:srgbClr>
                  </a:outerShdw>
                </a:effectLst>
                <a:latin typeface="Arial Black"/>
              </a:rPr>
              <a:t>¿ 2º -Por qué será...?</a:t>
            </a:r>
            <a:endParaRPr b="0" lang="en-US" sz="4000" spc="1" strike="noStrike">
              <a:ln w="1260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ff9900">
                      <a:alpha val="80392"/>
                    </a:srgbClr>
                  </a:gs>
                </a:gsLst>
                <a:lin ang="5400000"/>
              </a:gradFill>
              <a:effectLst>
                <a:outerShdw dist="107932" dir="2700000" blurRad="0" rotWithShape="0">
                  <a:srgbClr val="9999ff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32" name=""/>
          <p:cNvSpPr/>
          <p:nvPr/>
        </p:nvSpPr>
        <p:spPr>
          <a:xfrm>
            <a:off x="345960" y="216000"/>
            <a:ext cx="287280" cy="865080"/>
          </a:xfrm>
          <a:custGeom>
            <a:avLst/>
            <a:gdLst>
              <a:gd name="textAreaLeft" fmla="*/ 14040 w 287280"/>
              <a:gd name="textAreaRight" fmla="*/ 273240 w 287280"/>
              <a:gd name="textAreaTop" fmla="*/ 14040 h 865080"/>
              <a:gd name="textAreaBottom" fmla="*/ 851040 h 865080"/>
            </a:gdLst>
            <a:ahLst/>
            <a:rect l="textAreaLeft" t="textAreaTop" r="textAreaRight" b="textAreaBottom"/>
            <a:pathLst>
              <a:path w="21600" h="64989">
                <a:moveTo>
                  <a:pt x="3600" y="0"/>
                </a:moveTo>
                <a:arcTo wR="3600" hR="3600" stAng="16200000" swAng="-5400000"/>
                <a:lnTo>
                  <a:pt x="0" y="61389"/>
                </a:lnTo>
                <a:arcTo wR="3600" hR="3600" stAng="10800000" swAng="-5400000"/>
                <a:lnTo>
                  <a:pt x="18000" y="649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406440" y="838080"/>
            <a:ext cx="190440" cy="19080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395280" y="588960"/>
            <a:ext cx="190440" cy="19044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95280" y="266760"/>
            <a:ext cx="190440" cy="190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500"/>
                            </p:stCondLst>
                            <p:childTnLst>
                              <p:par>
                                <p:cTn id="7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50920" y="0"/>
            <a:ext cx="2340000" cy="6483240"/>
          </a:xfrm>
          <a:custGeom>
            <a:avLst/>
            <a:gdLst>
              <a:gd name="textAreaLeft" fmla="*/ 360 w 2340000"/>
              <a:gd name="textAreaRight" fmla="*/ 2339640 w 2340000"/>
              <a:gd name="textAreaTop" fmla="*/ 360 h 6483240"/>
              <a:gd name="textAreaBottom" fmla="*/ 6482880 h 6483240"/>
            </a:gdLst>
            <a:ahLst/>
            <a:rect l="textAreaLeft" t="textAreaTop" r="textAreaRight" b="textAreaBottom"/>
            <a:pathLst>
              <a:path w="21600" h="59839">
                <a:moveTo>
                  <a:pt x="14" y="0"/>
                </a:moveTo>
                <a:arcTo wR="14" hR="14" stAng="16200000" swAng="-5400000"/>
                <a:lnTo>
                  <a:pt x="0" y="59825"/>
                </a:lnTo>
                <a:arcTo wR="14" hR="14" stAng="10800000" swAng="-5400000"/>
                <a:lnTo>
                  <a:pt x="21586" y="59839"/>
                </a:lnTo>
                <a:arcTo wR="14" hR="14" stAng="5400000" swAng="-5400000"/>
                <a:lnTo>
                  <a:pt x="21600" y="14"/>
                </a:lnTo>
                <a:arcTo wR="14" hR="14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979640" y="1376280"/>
            <a:ext cx="6478560" cy="234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lin ang="10800000"/>
          </a:gra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¿Por qué nunca se hace la siguiente encuesta, (secretamente claro) en vez de las actuales formas de evalua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¿Si tú tuvieses que montar una empresa como esta, a quienes de aquí te gustaría lleva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979640" y="3933720"/>
            <a:ext cx="6478560" cy="234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fffff"/>
              </a:gs>
            </a:gsLst>
            <a:lin ang="10800000"/>
          </a:gra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833c88"/>
                </a:solidFill>
                <a:latin typeface="Arial"/>
              </a:rPr>
              <a:t>¿Será por que los actuales registros de evaluación se echarían a tembla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833c88"/>
                </a:solidFill>
                <a:latin typeface="Arial"/>
              </a:rPr>
              <a:t>¿Quizás no la podríamos montar por falta de persona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515880" y="1343160"/>
            <a:ext cx="2040120" cy="5038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 txBox="1"/>
          <p:nvPr/>
        </p:nvSpPr>
        <p:spPr>
          <a:xfrm>
            <a:off x="1619280" y="260280"/>
            <a:ext cx="712944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1" strike="noStrike">
                <a:ln w="1260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ff9900">
                        <a:alpha val="80392"/>
                      </a:srgbClr>
                    </a:gs>
                  </a:gsLst>
                  <a:lin ang="5400000"/>
                </a:gradFill>
                <a:effectLst>
                  <a:outerShdw dist="107932" dir="2700000" blurRad="0" rotWithShape="0">
                    <a:srgbClr val="9999ff">
                      <a:alpha val="50000"/>
                    </a:srgbClr>
                  </a:outerShdw>
                </a:effectLst>
                <a:latin typeface="Arial Black"/>
              </a:rPr>
              <a:t>¿ 3º -Por qué será...?</a:t>
            </a:r>
            <a:endParaRPr b="0" lang="en-US" sz="4000" spc="1" strike="noStrike">
              <a:ln w="1260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ff9900">
                      <a:alpha val="80392"/>
                    </a:srgbClr>
                  </a:gs>
                </a:gsLst>
                <a:lin ang="5400000"/>
              </a:gradFill>
              <a:effectLst>
                <a:outerShdw dist="107932" dir="2700000" blurRad="0" rotWithShape="0">
                  <a:srgbClr val="9999ff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41" name=""/>
          <p:cNvSpPr/>
          <p:nvPr/>
        </p:nvSpPr>
        <p:spPr>
          <a:xfrm>
            <a:off x="345960" y="216000"/>
            <a:ext cx="287280" cy="865080"/>
          </a:xfrm>
          <a:custGeom>
            <a:avLst/>
            <a:gdLst>
              <a:gd name="textAreaLeft" fmla="*/ 14040 w 287280"/>
              <a:gd name="textAreaRight" fmla="*/ 273240 w 287280"/>
              <a:gd name="textAreaTop" fmla="*/ 14040 h 865080"/>
              <a:gd name="textAreaBottom" fmla="*/ 851040 h 865080"/>
            </a:gdLst>
            <a:ahLst/>
            <a:rect l="textAreaLeft" t="textAreaTop" r="textAreaRight" b="textAreaBottom"/>
            <a:pathLst>
              <a:path w="21600" h="64989">
                <a:moveTo>
                  <a:pt x="3600" y="0"/>
                </a:moveTo>
                <a:arcTo wR="3600" hR="3600" stAng="16200000" swAng="-5400000"/>
                <a:lnTo>
                  <a:pt x="0" y="61389"/>
                </a:lnTo>
                <a:arcTo wR="3600" hR="3600" stAng="10800000" swAng="-5400000"/>
                <a:lnTo>
                  <a:pt x="18000" y="649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406440" y="838080"/>
            <a:ext cx="190440" cy="19080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395280" y="588960"/>
            <a:ext cx="190440" cy="19044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95280" y="266760"/>
            <a:ext cx="190440" cy="190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250920" y="0"/>
            <a:ext cx="2340000" cy="6483240"/>
          </a:xfrm>
          <a:custGeom>
            <a:avLst/>
            <a:gdLst>
              <a:gd name="textAreaLeft" fmla="*/ 360 w 2340000"/>
              <a:gd name="textAreaRight" fmla="*/ 2339640 w 2340000"/>
              <a:gd name="textAreaTop" fmla="*/ 360 h 6483240"/>
              <a:gd name="textAreaBottom" fmla="*/ 6482880 h 6483240"/>
            </a:gdLst>
            <a:ahLst/>
            <a:rect l="textAreaLeft" t="textAreaTop" r="textAreaRight" b="textAreaBottom"/>
            <a:pathLst>
              <a:path w="21600" h="59839">
                <a:moveTo>
                  <a:pt x="14" y="0"/>
                </a:moveTo>
                <a:arcTo wR="14" hR="14" stAng="16200000" swAng="-5400000"/>
                <a:lnTo>
                  <a:pt x="0" y="59825"/>
                </a:lnTo>
                <a:arcTo wR="14" hR="14" stAng="10800000" swAng="-5400000"/>
                <a:lnTo>
                  <a:pt x="21586" y="59839"/>
                </a:lnTo>
                <a:arcTo wR="14" hR="14" stAng="5400000" swAng="-5400000"/>
                <a:lnTo>
                  <a:pt x="21600" y="14"/>
                </a:lnTo>
                <a:arcTo wR="14" hR="14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979640" y="1376280"/>
            <a:ext cx="6478560" cy="234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lin ang="10800000"/>
          </a:gra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¿ Por qué cuando nos dormimos y llegamos tarde a trabajar, ponemos de excusa la enfermedad de un familiar 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979640" y="3933720"/>
            <a:ext cx="6478560" cy="234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fffff"/>
              </a:gs>
            </a:gsLst>
            <a:lin ang="10800000"/>
          </a:gra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833c88"/>
                </a:solidFill>
                <a:latin typeface="Arial"/>
              </a:rPr>
              <a:t>¿ No te has parado a pensar que de tanto y tanto repetirlo, algún día sucederá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833c88"/>
                </a:solidFill>
                <a:latin typeface="Arial"/>
              </a:rPr>
              <a:t>¿ Será por miedo a lo que pueda pasar, si cuentas la verdad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833c88"/>
                </a:solidFill>
                <a:latin typeface="Arial"/>
              </a:rPr>
              <a:t>¿ Será que de elegantes ná de ná ?</a:t>
            </a:r>
            <a:r>
              <a:rPr b="1" lang="es-ES" sz="2800" spc="-1" strike="noStrike">
                <a:solidFill>
                  <a:srgbClr val="833c8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515880" y="1343160"/>
            <a:ext cx="2040120" cy="503856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 txBox="1"/>
          <p:nvPr/>
        </p:nvSpPr>
        <p:spPr>
          <a:xfrm>
            <a:off x="1619280" y="260280"/>
            <a:ext cx="712944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1" strike="noStrike">
                <a:ln w="1260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ff9900">
                        <a:alpha val="80392"/>
                      </a:srgbClr>
                    </a:gs>
                  </a:gsLst>
                  <a:lin ang="5400000"/>
                </a:gradFill>
                <a:effectLst>
                  <a:outerShdw dist="107932" dir="2700000" blurRad="0" rotWithShape="0">
                    <a:srgbClr val="9999ff">
                      <a:alpha val="50000"/>
                    </a:srgbClr>
                  </a:outerShdw>
                </a:effectLst>
                <a:latin typeface="Arial Black"/>
              </a:rPr>
              <a:t>¿ 4º -Por qué será...?</a:t>
            </a:r>
            <a:endParaRPr b="0" lang="en-US" sz="4000" spc="1" strike="noStrike">
              <a:ln w="1260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ff9900">
                      <a:alpha val="80392"/>
                    </a:srgbClr>
                  </a:gs>
                </a:gsLst>
                <a:lin ang="5400000"/>
              </a:gradFill>
              <a:effectLst>
                <a:outerShdw dist="107932" dir="2700000" blurRad="0" rotWithShape="0">
                  <a:srgbClr val="9999ff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50" name=""/>
          <p:cNvSpPr/>
          <p:nvPr/>
        </p:nvSpPr>
        <p:spPr>
          <a:xfrm>
            <a:off x="345960" y="216000"/>
            <a:ext cx="287280" cy="865080"/>
          </a:xfrm>
          <a:custGeom>
            <a:avLst/>
            <a:gdLst>
              <a:gd name="textAreaLeft" fmla="*/ 14040 w 287280"/>
              <a:gd name="textAreaRight" fmla="*/ 273240 w 287280"/>
              <a:gd name="textAreaTop" fmla="*/ 14040 h 865080"/>
              <a:gd name="textAreaBottom" fmla="*/ 851040 h 865080"/>
            </a:gdLst>
            <a:ahLst/>
            <a:rect l="textAreaLeft" t="textAreaTop" r="textAreaRight" b="textAreaBottom"/>
            <a:pathLst>
              <a:path w="21600" h="64989">
                <a:moveTo>
                  <a:pt x="3600" y="0"/>
                </a:moveTo>
                <a:arcTo wR="3600" hR="3600" stAng="16200000" swAng="-5400000"/>
                <a:lnTo>
                  <a:pt x="0" y="61389"/>
                </a:lnTo>
                <a:arcTo wR="3600" hR="3600" stAng="10800000" swAng="-5400000"/>
                <a:lnTo>
                  <a:pt x="18000" y="649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406440" y="838080"/>
            <a:ext cx="190440" cy="19080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395280" y="588960"/>
            <a:ext cx="190440" cy="19044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95280" y="266760"/>
            <a:ext cx="190440" cy="190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250920" y="0"/>
            <a:ext cx="2340000" cy="6483240"/>
          </a:xfrm>
          <a:custGeom>
            <a:avLst/>
            <a:gdLst>
              <a:gd name="textAreaLeft" fmla="*/ 360 w 2340000"/>
              <a:gd name="textAreaRight" fmla="*/ 2339640 w 2340000"/>
              <a:gd name="textAreaTop" fmla="*/ 360 h 6483240"/>
              <a:gd name="textAreaBottom" fmla="*/ 6482880 h 6483240"/>
            </a:gdLst>
            <a:ahLst/>
            <a:rect l="textAreaLeft" t="textAreaTop" r="textAreaRight" b="textAreaBottom"/>
            <a:pathLst>
              <a:path w="21600" h="59839">
                <a:moveTo>
                  <a:pt x="14" y="0"/>
                </a:moveTo>
                <a:arcTo wR="14" hR="14" stAng="16200000" swAng="-5400000"/>
                <a:lnTo>
                  <a:pt x="0" y="59825"/>
                </a:lnTo>
                <a:arcTo wR="14" hR="14" stAng="10800000" swAng="-5400000"/>
                <a:lnTo>
                  <a:pt x="21586" y="59839"/>
                </a:lnTo>
                <a:arcTo wR="14" hR="14" stAng="5400000" swAng="-5400000"/>
                <a:lnTo>
                  <a:pt x="21600" y="14"/>
                </a:lnTo>
                <a:arcTo wR="14" hR="14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979640" y="1376280"/>
            <a:ext cx="6478560" cy="234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lin ang="10800000"/>
          </a:gra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¿ Por qué cuando te pones en tanden con un superior a trabajar,  acabas solo y harto de tanto pedalear 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979640" y="3933720"/>
            <a:ext cx="6478560" cy="234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fffff"/>
              </a:gs>
            </a:gsLst>
            <a:lin ang="10800000"/>
          </a:gra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833c88"/>
                </a:solidFill>
                <a:latin typeface="Arial"/>
              </a:rPr>
              <a:t>¿ Será que se siente extraño, el pobre, al trabajar 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833c88"/>
                </a:solidFill>
                <a:latin typeface="Arial"/>
              </a:rPr>
              <a:t>¿ No te recuerda aquella gran pelea que bien empezó. Torta va, torta viene, torta va, torta viene, torta viene, torta viene, torta viene, hasta que me tumbo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515880" y="1343160"/>
            <a:ext cx="2040120" cy="503856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 txBox="1"/>
          <p:nvPr/>
        </p:nvSpPr>
        <p:spPr>
          <a:xfrm>
            <a:off x="1619280" y="260280"/>
            <a:ext cx="712944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1" strike="noStrike">
                <a:ln w="1260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ff9900">
                        <a:alpha val="80392"/>
                      </a:srgbClr>
                    </a:gs>
                  </a:gsLst>
                  <a:lin ang="5400000"/>
                </a:gradFill>
                <a:effectLst>
                  <a:outerShdw dist="107932" dir="2700000" blurRad="0" rotWithShape="0">
                    <a:srgbClr val="9999ff">
                      <a:alpha val="50000"/>
                    </a:srgbClr>
                  </a:outerShdw>
                </a:effectLst>
                <a:latin typeface="Arial Black"/>
              </a:rPr>
              <a:t>¿ 5º -Por qué será...?</a:t>
            </a:r>
            <a:endParaRPr b="0" lang="en-US" sz="4000" spc="1" strike="noStrike">
              <a:ln w="1260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ff9900">
                      <a:alpha val="80392"/>
                    </a:srgbClr>
                  </a:gs>
                </a:gsLst>
                <a:lin ang="5400000"/>
              </a:gradFill>
              <a:effectLst>
                <a:outerShdw dist="107932" dir="2700000" blurRad="0" rotWithShape="0">
                  <a:srgbClr val="9999ff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59" name=""/>
          <p:cNvSpPr/>
          <p:nvPr/>
        </p:nvSpPr>
        <p:spPr>
          <a:xfrm>
            <a:off x="345960" y="216000"/>
            <a:ext cx="287280" cy="865080"/>
          </a:xfrm>
          <a:custGeom>
            <a:avLst/>
            <a:gdLst>
              <a:gd name="textAreaLeft" fmla="*/ 14040 w 287280"/>
              <a:gd name="textAreaRight" fmla="*/ 273240 w 287280"/>
              <a:gd name="textAreaTop" fmla="*/ 14040 h 865080"/>
              <a:gd name="textAreaBottom" fmla="*/ 851040 h 865080"/>
            </a:gdLst>
            <a:ahLst/>
            <a:rect l="textAreaLeft" t="textAreaTop" r="textAreaRight" b="textAreaBottom"/>
            <a:pathLst>
              <a:path w="21600" h="64989">
                <a:moveTo>
                  <a:pt x="3600" y="0"/>
                </a:moveTo>
                <a:arcTo wR="3600" hR="3600" stAng="16200000" swAng="-5400000"/>
                <a:lnTo>
                  <a:pt x="0" y="61389"/>
                </a:lnTo>
                <a:arcTo wR="3600" hR="3600" stAng="10800000" swAng="-5400000"/>
                <a:lnTo>
                  <a:pt x="18000" y="649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406440" y="838080"/>
            <a:ext cx="190440" cy="19080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395280" y="588960"/>
            <a:ext cx="190440" cy="19044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95280" y="266760"/>
            <a:ext cx="190440" cy="190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9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500"/>
                            </p:stCondLst>
                            <p:childTnLst>
                              <p:par>
                                <p:cTn id="12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250920" y="0"/>
            <a:ext cx="2340000" cy="6483240"/>
          </a:xfrm>
          <a:custGeom>
            <a:avLst/>
            <a:gdLst>
              <a:gd name="textAreaLeft" fmla="*/ 360 w 2340000"/>
              <a:gd name="textAreaRight" fmla="*/ 2339640 w 2340000"/>
              <a:gd name="textAreaTop" fmla="*/ 360 h 6483240"/>
              <a:gd name="textAreaBottom" fmla="*/ 6482880 h 6483240"/>
            </a:gdLst>
            <a:ahLst/>
            <a:rect l="textAreaLeft" t="textAreaTop" r="textAreaRight" b="textAreaBottom"/>
            <a:pathLst>
              <a:path w="21600" h="59839">
                <a:moveTo>
                  <a:pt x="14" y="0"/>
                </a:moveTo>
                <a:arcTo wR="14" hR="14" stAng="16200000" swAng="-5400000"/>
                <a:lnTo>
                  <a:pt x="0" y="59825"/>
                </a:lnTo>
                <a:arcTo wR="14" hR="14" stAng="10800000" swAng="-5400000"/>
                <a:lnTo>
                  <a:pt x="21586" y="59839"/>
                </a:lnTo>
                <a:arcTo wR="14" hR="14" stAng="5400000" swAng="-5400000"/>
                <a:lnTo>
                  <a:pt x="21600" y="14"/>
                </a:lnTo>
                <a:arcTo wR="14" hR="14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979640" y="1376280"/>
            <a:ext cx="6478560" cy="234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lin ang="10800000"/>
          </a:gra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¿ Por qué dicen que los males de los currelas vienen, de a sus superiores, gritar y hacerles enfadar 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979640" y="3933720"/>
            <a:ext cx="6478560" cy="234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fffff"/>
              </a:gs>
            </a:gsLst>
            <a:lin ang="10800000"/>
          </a:gra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833c88"/>
                </a:solidFill>
                <a:latin typeface="Arial"/>
              </a:rPr>
              <a:t>¿ No te has parado a pensar si a ti te sucede algo parecido o igual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833c88"/>
                </a:solidFill>
                <a:latin typeface="Arial"/>
              </a:rPr>
              <a:t>¿ Será que no sabéis, que es, por intentar hacerles trabajar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515880" y="1343160"/>
            <a:ext cx="2040120" cy="503856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 txBox="1"/>
          <p:nvPr/>
        </p:nvSpPr>
        <p:spPr>
          <a:xfrm>
            <a:off x="1619280" y="260280"/>
            <a:ext cx="712944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1" strike="noStrike">
                <a:ln w="1260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ff9900">
                        <a:alpha val="80392"/>
                      </a:srgbClr>
                    </a:gs>
                  </a:gsLst>
                  <a:lin ang="5400000"/>
                </a:gradFill>
                <a:effectLst>
                  <a:outerShdw dist="107932" dir="2700000" blurRad="0" rotWithShape="0">
                    <a:srgbClr val="9999ff">
                      <a:alpha val="50000"/>
                    </a:srgbClr>
                  </a:outerShdw>
                </a:effectLst>
                <a:latin typeface="Arial Black"/>
              </a:rPr>
              <a:t>¿ 6º -Por qué será...?</a:t>
            </a:r>
            <a:endParaRPr b="0" lang="en-US" sz="4000" spc="1" strike="noStrike">
              <a:ln w="1260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ff9900">
                      <a:alpha val="80392"/>
                    </a:srgbClr>
                  </a:gs>
                </a:gsLst>
                <a:lin ang="5400000"/>
              </a:gradFill>
              <a:effectLst>
                <a:outerShdw dist="107932" dir="2700000" blurRad="0" rotWithShape="0">
                  <a:srgbClr val="9999ff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68" name=""/>
          <p:cNvSpPr/>
          <p:nvPr/>
        </p:nvSpPr>
        <p:spPr>
          <a:xfrm>
            <a:off x="345960" y="216000"/>
            <a:ext cx="287280" cy="865080"/>
          </a:xfrm>
          <a:custGeom>
            <a:avLst/>
            <a:gdLst>
              <a:gd name="textAreaLeft" fmla="*/ 14040 w 287280"/>
              <a:gd name="textAreaRight" fmla="*/ 273240 w 287280"/>
              <a:gd name="textAreaTop" fmla="*/ 14040 h 865080"/>
              <a:gd name="textAreaBottom" fmla="*/ 851040 h 865080"/>
            </a:gdLst>
            <a:ahLst/>
            <a:rect l="textAreaLeft" t="textAreaTop" r="textAreaRight" b="textAreaBottom"/>
            <a:pathLst>
              <a:path w="21600" h="64989">
                <a:moveTo>
                  <a:pt x="3600" y="0"/>
                </a:moveTo>
                <a:arcTo wR="3600" hR="3600" stAng="16200000" swAng="-5400000"/>
                <a:lnTo>
                  <a:pt x="0" y="61389"/>
                </a:lnTo>
                <a:arcTo wR="3600" hR="3600" stAng="10800000" swAng="-5400000"/>
                <a:lnTo>
                  <a:pt x="18000" y="649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406440" y="838080"/>
            <a:ext cx="190440" cy="19080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395280" y="588960"/>
            <a:ext cx="190440" cy="19044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95280" y="266760"/>
            <a:ext cx="190440" cy="190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4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 MANUEL LATORRE</dc:creator>
  <dc:description/>
  <dc:language>en-US</dc:language>
  <cp:lastModifiedBy>aita-j m latorre</cp:lastModifiedBy>
  <dcterms:modified xsi:type="dcterms:W3CDTF">2007-05-02T15:32:51Z</dcterms:modified>
  <cp:revision>58</cp:revision>
  <dc:subject/>
  <dc:title>Diapositiva 1</dc:title>
</cp:coreProperties>
</file>