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8748720"/>
            <a:ext cx="360" cy="189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7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C73-3D58-4351-8A17-4FB3CC84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039-EEE9-4CD9-8BE1-8B950CFC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A0F-F73C-4851-8EBE-9833D70E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79D-0E0F-4CA4-86F7-6BD00D6B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0BB-18DA-4B67-8861-B9B3EE14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F0D-32B4-4490-8846-E3ED8E9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8C07-7CFD-40BD-BED1-8B1FB7E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0193-6A60-4787-A792-0699028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92F-E1B0-4B30-BA76-7E718B7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C8B-68FB-4913-AC37-5A54B28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CBAD-85B6-4DDB-8147-6C4D3A7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5C7-02A7-4E37-BB5A-A27F5A0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187-614D-4F41-95FB-4A21E7C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B554-3CCA-4AAC-9186-A990C4F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F6F-6126-45AA-82E0-3278301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54AF-37DF-48E5-80A1-20849DDA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5F1-E0C6-4B2F-9E89-A21FDD6A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603-3F13-4893-9D90-9557407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CFC-70B8-43D0-9FB9-873F8E06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5E2-C575-4142-A4DE-A00EAC7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EC1-4695-49CE-BB08-3A9E66A3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E3E-5B1D-4FFB-8879-47FE0E1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C65-186B-4E30-B29D-4AD6371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70B-BA05-41D2-8CE5-6100C48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6A35A-DE0A-4401-8E54-A5A6FBFF6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B5EC62-C72B-48C5-BF33-34BC2C8354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me siento a veces trabajando peor que un prostituto profesion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entrego además de mi cuerpo, mi cerebro, mi alma, nunca puedo gozar y encima, me pagan m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De que me puedo quejar si tengo techo, luz, agua y calefación centr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un jefe se va, todo va, pero cuando un currela se va, el currelo se empieza amonton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él lucha y se sacrifica por la defensa de los puestos de los demá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un tema de capacid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i es mas claro, agua se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unos de otros me cuentan barbaridades si a la vista de todos entre ellos parece que se ama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erá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No te suena a un “Por qué” repeti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currelas se callan o se llevan todos sus conocimientos al marchar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Será por miedo a que los demás sepan tanto o más que ello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no tienen nada que pas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los consideran suyos y que los demás se lo tienen que cur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abran que nacieron en pelot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 me produce mala leche y obesidad, sigo observando las costumbres y reacciones de los demás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me encuentro esbelto y ágil y el ombligo me puedo mi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No será, por no tener lo que tendría que tener, para dentro de mí, mi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yo para ti tengo que ser guay y tu para mi, un anim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res más que y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En que coño estaré pensan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Cuanto darías por saberl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Por qué dicen con menosprecio que el Creador nos puso “eso” con lo que le sobro de hacer a Eva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Será para creernos más que ell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Será que fallo por un metro mas o menos y por eso tenemos  menos cereb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833c88"/>
                </a:solidFill>
                <a:latin typeface="Arial"/>
              </a:rPr>
              <a:t>¿ No será el asa para sacarme alguna vez del armari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 me “escaqueo” en el curro me siento mal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me pagan mucho y siento enormemente el defraud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No Será que nasiste pa trabaja.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Fulano, Mengano, Zutano, maestros, dadnos clases, quitadnos este males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4-29T19:54:48Z</dcterms:modified>
  <cp:revision>51</cp:revision>
  <dc:subject/>
  <dc:title>Diapositiva 1</dc:title>
</cp:coreProperties>
</file>