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-8748720"/>
            <a:ext cx="360" cy="189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704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F78-DCA9-43FF-9349-6AB593F6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6BF-BB09-440F-8F64-880BF032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051-C748-4DB1-AF34-1964101A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537-B63C-4204-870E-768AC8E0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C3B-A421-4F82-AB78-5D92C36F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102C-7F44-4D8E-ADA0-71F3FE52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06D-0999-4C95-A501-1E8CDE78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F875-CC93-4247-BC81-36627B01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1FA1-926B-4756-BCDD-52E0757E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197-0153-4368-BBE2-B465DDB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C87B-601B-41A1-ABB8-3C8291E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AD0-84A8-4D36-8F4D-D7DB039B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F0C7-E957-419B-97D3-EE44E52B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EF90-75FE-445D-BE2D-D90ADEB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DB89-554D-411B-B2B5-7CC0BA8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19E-C147-4E03-9DB3-4624DDD6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170-D1C6-4335-8698-B333C034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DBF-213F-40CC-80A7-F325814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984-6722-496C-8EEF-2F915216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F60-31B1-44FF-9311-6174E04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EA9-53C2-4670-8DC4-A577ACF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550-14D1-4793-95A9-CA586C3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B29-3E2E-4886-919C-F1204FA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1B3-7F9F-4FC9-8972-28D8F9B6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A459-BF10-467E-9C0F-F32C7EF6A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A203D7-6C51-419C-A8CD-F15F65CB8D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me siento a veces trabajando peor que un prostituto profesion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entrego además de mi cuerpo, mi cerebro, mi alma, nunca puedo gozar y encima, me pagan m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De que me puedo quejar si tengo techo, luz, agua y calefación centr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un jefe se va, todo va, pero cuando un currela se va, el currelo se empieza amonton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él lucha y se sacrifica por la defensa de los puestos de los demá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un tema de capacid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i es mas claro, agua se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unos de otros me cuentan barbaridades si a la vista de todos entre ellos parece que se ama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erá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No te suena a un “Por qué” repeti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currelas se callan o se llevan todos sus conocimientos al march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 Será por miedo a que los demás sepan tanto o más que ello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erá que no tienen nada que pas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erá que los consideran suyos y que los demás se lo tienen que cur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abran que nacieron en pelot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i me produce mala leche y obesidad, sigo observando las costumbres y reacciones de los demás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me encuentro esbelto y ágil y el ombligo me puedo mi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No será, por no tener lo que tendría que tener, para dentro de mí, mi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yo para ti tengo que ser guay y tu para mi, un animal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res más que y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En que coño estaré pensan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Cuanto darías por saberl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 Por qué dicen con menosprecio que el Creador nos puso “eso” con lo que le sobro de hacer a Eva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 Será para creernos más que ell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erá que fallo por un metro mas o menos y por eso tenemos  menos cereb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 No será el asa para sacarme alguna vez del armari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i me “escaqueo” en el curro me siento mal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Será que me pagan mucho y siento enormemente el defraud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No Será que nasiste pa trabaja.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Fulano, Mengano, Zutano, maestros, dadnos clases, quitadnos este males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4-29T19:54:48Z</dcterms:modified>
  <cp:revision>51</cp:revision>
  <dc:subject/>
  <dc:title>Diapositiva 1</dc:title>
</cp:coreProperties>
</file>