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858000" cy="96980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698040"/>
              <a:gd name="textAreaBottom" fmla="*/ 9697680 h 9698040"/>
            </a:gdLst>
            <a:ahLst/>
            <a:rect l="textAreaLeft" t="textAreaTop" r="textAreaRight" b="textAreaBottom"/>
            <a:pathLst>
              <a:path w="21600" h="30545">
                <a:moveTo>
                  <a:pt x="5" y="0"/>
                </a:moveTo>
                <a:arcTo wR="5" hR="5" stAng="16200000" swAng="-5400000"/>
                <a:lnTo>
                  <a:pt x="0" y="30540"/>
                </a:lnTo>
                <a:arcTo wR="5" hR="5" stAng="10800000" swAng="-5400000"/>
                <a:lnTo>
                  <a:pt x="21595" y="30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6980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698040"/>
              <a:gd name="textAreaBottom" fmla="*/ 9697680 h 9698040"/>
            </a:gdLst>
            <a:ahLst/>
            <a:rect l="textAreaLeft" t="textAreaTop" r="textAreaRight" b="textAreaBottom"/>
            <a:pathLst>
              <a:path w="21600" h="30545">
                <a:moveTo>
                  <a:pt x="5" y="0"/>
                </a:moveTo>
                <a:arcTo wR="5" hR="5" stAng="16200000" swAng="-5400000"/>
                <a:lnTo>
                  <a:pt x="0" y="30540"/>
                </a:lnTo>
                <a:arcTo wR="5" hR="5" stAng="10800000" swAng="-5400000"/>
                <a:lnTo>
                  <a:pt x="21595" y="30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858000" cy="96980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698040"/>
              <a:gd name="textAreaBottom" fmla="*/ 9697680 h 9698040"/>
            </a:gdLst>
            <a:ahLst/>
            <a:rect l="textAreaLeft" t="textAreaTop" r="textAreaRight" b="textAreaBottom"/>
            <a:pathLst>
              <a:path w="21600" h="30545">
                <a:moveTo>
                  <a:pt x="5" y="0"/>
                </a:moveTo>
                <a:arcTo wR="5" hR="5" stAng="16200000" swAng="-5400000"/>
                <a:lnTo>
                  <a:pt x="0" y="30540"/>
                </a:lnTo>
                <a:arcTo wR="5" hR="5" stAng="10800000" swAng="-5400000"/>
                <a:lnTo>
                  <a:pt x="21595" y="30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858000" cy="96980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698040"/>
              <a:gd name="textAreaBottom" fmla="*/ 9697680 h 9698040"/>
            </a:gdLst>
            <a:ahLst/>
            <a:rect l="textAreaLeft" t="textAreaTop" r="textAreaRight" b="textAreaBottom"/>
            <a:pathLst>
              <a:path w="21600" h="30545">
                <a:moveTo>
                  <a:pt x="5" y="0"/>
                </a:moveTo>
                <a:arcTo wR="5" hR="5" stAng="16200000" swAng="-5400000"/>
                <a:lnTo>
                  <a:pt x="0" y="30540"/>
                </a:lnTo>
                <a:arcTo wR="5" hR="5" stAng="10800000" swAng="-5400000"/>
                <a:lnTo>
                  <a:pt x="21595" y="30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858000" cy="96980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698040"/>
              <a:gd name="textAreaBottom" fmla="*/ 9697680 h 9698040"/>
            </a:gdLst>
            <a:ahLst/>
            <a:rect l="textAreaLeft" t="textAreaTop" r="textAreaRight" b="textAreaBottom"/>
            <a:pathLst>
              <a:path w="21600" h="30545">
                <a:moveTo>
                  <a:pt x="5" y="0"/>
                </a:moveTo>
                <a:arcTo wR="5" hR="5" stAng="16200000" swAng="-5400000"/>
                <a:lnTo>
                  <a:pt x="0" y="30540"/>
                </a:lnTo>
                <a:arcTo wR="5" hR="5" stAng="10800000" swAng="-5400000"/>
                <a:lnTo>
                  <a:pt x="21595" y="30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-360" y="-8748720"/>
            <a:ext cx="360" cy="189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7040" cy="43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5405-3EAB-4860-B316-97358F77E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38C8-15D8-4B91-8F2B-8825C3CE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5B5C-14AF-4799-86F2-D0BCD3018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D039-09C3-4383-A742-6FAB2F13E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D70A-1A2B-452B-9593-1B1B87E43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CEE8E-9523-4A05-A3F0-80EE4077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16A0-6111-4A7A-8923-8FDEBADF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A64AB-FF7B-43F4-9620-9CBACD5E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F1EC-FE06-48E3-BDF9-EB857A48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ECBD-3F56-4930-B2C9-902FEB41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90AD2-1D11-4847-95A0-4BB33B06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597B-9864-4DF4-8461-6FC9F680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9963-FD04-4FB3-9E56-F44EAD35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7B5B-F9E0-4996-ACA7-6FFF19C2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9D24-FC6B-4A70-9ABE-86829A09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D976-2998-4943-8D87-6971037CF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676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596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19A0-2D49-4B48-8AE8-AC1426739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5F79-3B44-41A3-B756-FC96C089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4B50-DFBC-4316-871D-729EB8A4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B23A-1D0F-4480-BF28-3542CA97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6608-3315-4278-8CD1-D73FF1CD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8CAB-D049-4C1E-9EC3-47F0BB38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15A3-D5B9-4116-ACA8-AF7C9FB1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8164-396C-4142-A816-203AABB9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155BCAA-EA68-47A6-A158-A84A784531B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299880" indent="-29988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9880" indent="-24840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240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861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243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28CB05-22FC-4044-9917-C12A5A2ED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6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5.xml"/><Relationship Id="rId1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40000" y="1413000"/>
            <a:ext cx="611820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40000" y="4510080"/>
            <a:ext cx="611820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309840" y="1860480"/>
            <a:ext cx="49341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¿ Por qué será... ?</a:t>
            </a:r>
            <a:endParaRPr b="0" lang="en-US" sz="4000" spc="1" strike="noStrike">
              <a:ln w="12600">
                <a:solidFill>
                  <a:srgbClr val="ff99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56000" y="5029200"/>
            <a:ext cx="4933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833c88"/>
                  </a:solidFill>
                  <a:miter/>
                </a:ln>
                <a:solidFill>
                  <a:srgbClr val="c17cc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¿ Será por ... ?</a:t>
            </a:r>
            <a:endParaRPr b="0" lang="en-US" sz="4000" spc="1" strike="noStrike">
              <a:ln w="12600">
                <a:solidFill>
                  <a:srgbClr val="833c88"/>
                </a:solidFill>
                <a:miter/>
              </a:ln>
              <a:solidFill>
                <a:srgbClr val="c17cc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633840" y="3284640"/>
            <a:ext cx="4825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584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V Parte</a:t>
            </a:r>
            <a:endParaRPr b="0" lang="en-US" sz="1800" spc="1" strike="noStrike">
              <a:ln w="15840">
                <a:solidFill>
                  <a:srgbClr val="ff99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42920" y="333360"/>
            <a:ext cx="77770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6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¿ Por qué algunos “tíos” en los currelos no dan el mismo trato a los hombres que a las mujeres, a las cuales, hablan, sonrríen y agasajan mas, y hasta les cambia la voz, cuando las habla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833c88"/>
                </a:solidFill>
                <a:latin typeface="Arial"/>
              </a:rPr>
              <a:t>¿ Será que lo bello nos transforma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833c88"/>
                </a:solidFill>
                <a:latin typeface="Arial"/>
              </a:rPr>
              <a:t>¿ Será que en el fondo seguimos siendo gallitos de corral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833c88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833c88"/>
                </a:solidFill>
                <a:latin typeface="Arial"/>
              </a:rPr>
              <a:t>¿Será que solo intentamos integrarnos ... por afinidad, en este hermoso colectivo social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833c88"/>
                </a:solidFill>
                <a:latin typeface="Arial"/>
              </a:rPr>
              <a:t>¿Será que todavía hoy tiran más dos tetas que una carreta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7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7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siempre damos los buenos días a todos si en el fondo a algunos nos gustaría darles otras cosa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833c88"/>
                </a:solidFill>
                <a:latin typeface="Arial"/>
              </a:rPr>
              <a:t>¿ Será que fuimos a colegios de pago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833c88"/>
                </a:solidFill>
                <a:latin typeface="Arial"/>
              </a:rPr>
              <a:t>¿ Será que no tenemos arrautxas (huevos) para decir lo que pensamo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833c88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833c88"/>
                </a:solidFill>
                <a:latin typeface="Arial"/>
              </a:rPr>
              <a:t>¿Será que tendríamos que cambiar el significado de la palabra educació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8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6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79640" y="1376280"/>
            <a:ext cx="6478560" cy="4932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será que me encuentro reflejado en tantos “Por qué …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soy human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Será que los demás no me entienden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Será que soy un cabrito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833c88"/>
                </a:solidFill>
                <a:latin typeface="Arial"/>
              </a:rPr>
              <a:t>¡¡ Coño 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Y Por qué me quito año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1619280" y="27612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4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904120" y="5791680"/>
            <a:ext cx="1910520" cy="390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Anterior álb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7120" y="20016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620640"/>
            <a:ext cx="1946160" cy="5394240"/>
          </a:xfrm>
          <a:custGeom>
            <a:avLst/>
            <a:gdLst>
              <a:gd name="textAreaLeft" fmla="*/ 360 w 1946160"/>
              <a:gd name="textAreaRight" fmla="*/ 1945800 w 1946160"/>
              <a:gd name="textAreaTop" fmla="*/ 360 h 5394240"/>
              <a:gd name="textAreaBottom" fmla="*/ 5393880 h 5394240"/>
            </a:gdLst>
            <a:ahLst/>
            <a:rect l="textAreaLeft" t="textAreaTop" r="textAreaRight" b="textAreaBottom"/>
            <a:pathLst>
              <a:path w="21600" h="59862">
                <a:moveTo>
                  <a:pt x="17" y="0"/>
                </a:moveTo>
                <a:arcTo wR="17" hR="17" stAng="16200000" swAng="-5400000"/>
                <a:lnTo>
                  <a:pt x="0" y="59845"/>
                </a:lnTo>
                <a:arcTo wR="17" hR="17" stAng="10800000" swAng="-5400000"/>
                <a:lnTo>
                  <a:pt x="21583" y="59862"/>
                </a:lnTo>
                <a:arcTo wR="17" hR="17" stAng="5400000" swAng="-5400000"/>
                <a:lnTo>
                  <a:pt x="21600" y="17"/>
                </a:lnTo>
                <a:arcTo wR="17" hR="17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08000" y="2924280"/>
            <a:ext cx="6624720" cy="2233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7662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¡ Jodo cuantas cosas desconozco 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3419640" y="4869000"/>
            <a:ext cx="3809880" cy="3427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>
            <a:hlinkClick r:id="" action="ppaction://hlinkshowjump?jump=firstslide"/>
          </p:cNvPr>
          <p:cNvPicPr/>
          <p:nvPr/>
        </p:nvPicPr>
        <p:blipFill>
          <a:blip r:embed="rId4"/>
          <a:stretch/>
        </p:blipFill>
        <p:spPr>
          <a:xfrm>
            <a:off x="395280" y="84132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3203640" y="50133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8675640" y="189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8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1332000" y="27612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11" name="" descr="">
            <a:hlinkClick r:id="" action="ppaction://hlinkshowjump?jump=endshow"/>
          </p:cNvPr>
          <p:cNvPicPr/>
          <p:nvPr/>
        </p:nvPicPr>
        <p:blipFill>
          <a:blip r:embed="rId9"/>
          <a:stretch/>
        </p:blipFill>
        <p:spPr>
          <a:xfrm>
            <a:off x="8664480" y="6308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0"/>
          <a:stretch/>
        </p:blipFill>
        <p:spPr>
          <a:xfrm>
            <a:off x="3056040" y="5888160"/>
            <a:ext cx="190440" cy="1904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436720" y="5793480"/>
            <a:ext cx="2044080" cy="390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Siguiente álbu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1"/>
          <a:stretch/>
        </p:blipFill>
        <p:spPr>
          <a:xfrm>
            <a:off x="7093080" y="587700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38560" y="1341360"/>
            <a:ext cx="6337080" cy="4897440"/>
          </a:xfrm>
          <a:prstGeom prst="roundRect">
            <a:avLst>
              <a:gd name="adj" fmla="val 761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3200" spc="-1" strike="noStrike">
                <a:solidFill>
                  <a:srgbClr val="9900cc"/>
                </a:solidFill>
                <a:latin typeface="Arial"/>
              </a:rPr>
              <a:t>Todo lo que a continuación  intento exponer, es fruto de mi experiencia. Acumulada, en 61 años de vida natural, con 45 de labo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J. M. Lator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755640" y="260280"/>
            <a:ext cx="77770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268360" y="4437000"/>
            <a:ext cx="6121440" cy="144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8574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¿O será mi imaginación 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6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fijándote en el muñeco de la izquierda, compruebas que a pesar de ser de oro, tiene una proyección morada y una sombra, tan negra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es un misterio de la física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algunos nacemos así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Será solo un efecto óptic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0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cuando realizas un buen y complicado trabajo, que dá como resultado supongamos que 100 y se lo presentas al superior, este te obliga a poner 100,001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es un gran matemátic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Será que así la solución es de el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Será por jode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1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tengo la sensación de que nunca podré acabar estos “Por qué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he descubierto el movimiento continu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2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tengo la sensación de que nací en la empresa hace 61 años y estuve preparándome fuera hasta los 16 año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estaba “predestinato”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será que no se hacer otra cosa que trabaja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Será que no nací en Neguri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Habré sido explotad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3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cada vez que me muerdo la lengua me envenen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soy una víbora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Será que no nací para callarme y llevo mucho tiempo en silenci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4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 crees que sigo desarrollando más y más por qué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33c88"/>
                </a:solidFill>
                <a:latin typeface="Arial"/>
              </a:rPr>
              <a:t>¿Será que son interminabl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33c88"/>
                </a:solidFill>
                <a:latin typeface="Arial"/>
              </a:rPr>
              <a:t>¿ Será que algunos me los solicitái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33c88"/>
                </a:solidFill>
                <a:latin typeface="Arial"/>
              </a:rPr>
              <a:t>¿ Será mi puto ego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33c88"/>
                </a:solidFill>
                <a:latin typeface="Arial"/>
              </a:rPr>
              <a:t>¿Será que somos masocas y que el que nos joda. nos puede hacer goza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5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nadie saca los costos de las necesidades fisiológicas de los jef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33c88"/>
                </a:solidFill>
                <a:latin typeface="Arial"/>
              </a:rPr>
              <a:t>¿ Será que un pis puede valer 2 € y una caca sin prensa 4 y da miedo calcula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33c88"/>
                </a:solidFill>
                <a:latin typeface="Arial"/>
              </a:rPr>
              <a:t>¿ Alguien ha pensado lo que el consumo de fibra y diuréticos puede ocasion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33c88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833c88"/>
                </a:solidFill>
                <a:latin typeface="Arial"/>
              </a:rPr>
              <a:t>¿Sabes cuantos niños del tercer mundo vivirían con esa mierda (dinero)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6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8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 MANUEL LATORRE</dc:creator>
  <dc:description/>
  <dc:language>en-US</dc:language>
  <cp:lastModifiedBy>aita-j m latorre</cp:lastModifiedBy>
  <dcterms:modified xsi:type="dcterms:W3CDTF">2007-04-29T19:51:58Z</dcterms:modified>
  <cp:revision>49</cp:revision>
  <dc:subject/>
  <dc:title>Diapositiva 1</dc:title>
</cp:coreProperties>
</file>