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8748720"/>
            <a:ext cx="360" cy="189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7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534-307A-4EC2-88D5-5D8600F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5A5-DDF4-458D-AD63-29055CF0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7FF-15E1-48E1-9C85-717A3BC4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900-1145-46B5-BD62-A1FECDF3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DD67-A0F6-4869-B151-50DD714B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F558-70DE-4FDE-B804-377A995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171-5495-4DBD-81C5-4EDFD8E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522-2406-469C-8CDF-3366631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2D5E-8451-4EF8-817B-049258AC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BA81-F61A-4D16-ABC7-15DCA7D8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3A59-0179-4166-92AB-E58848F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44-52CC-45E6-AFB4-2DC20BF1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DB3A-6A80-41BB-9D87-68CDB15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4E5-D85C-49C4-94FD-ECABB96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943-2594-4259-B22A-5C5BE56A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129D-41D6-49DC-84E1-E12CFDFD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4599-CC6C-4D96-B241-63673D0F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8B3-3E5A-451F-A17F-CDD2D78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04A-EE29-424B-AD11-85A55CF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8B3-CBE0-4C89-A3EF-5D225F6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1C9-5639-42EC-92D2-79774C3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9E0-B9A9-4EFE-8876-0C038B6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01E-4287-4344-B210-E68BA99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766-D305-4617-9381-049129E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4841A8-C5AB-44BD-A2DA-251D3E5F51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50FE-4FD8-4588-9E7A-45CFAC52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V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Por qué algunos “tíos” en los currelos no dan el mismo trato a los hombres que a las mujeres, a las cuales, hablan, sonrríen y agasajan mas, y hasta les cambia la voz, cuando las habl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lo bello nos transform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en el fondo seguimos siendo gallitos de corra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solo intentamos integrarnos ... por afinidad, en este hermoso colectivo socia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todavía hoy tiran más dos tetas que una carret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empre damos los buenos días a todos si en el fondo a algunos nos gustaría darles otras cos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fuimos a colegios de pag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no tenemos arrautxas (huevos) para decir lo que pensamo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Será que tendríamos que cambiar el significado de la palabra educac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realizas un buen y complicado trabajo, que dá como resultado supongamos que 100 y se lo presentas al superior, este te obliga a poner 100,001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gran matemá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así la solución es de 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por jod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tengo la sensación de que nunca podré acabar estos “Por qué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he descubierto el movimiento continu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tengo la sensación de que nací en la empresa hace 61 años y estuve preparándome fuera hasta los 16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taba “predestinato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se hacer otra cosa que trabaj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nací en Negur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Habré sido explota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ada vez que me muerdo la lengua me envene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una víbo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nací para callarme y llevo mucho tiempo en silenci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crees que sigo desarrollando más y más por qué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son interminab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algunos me los solicitá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mi puto eg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somos masocas y que el que nos joda. nos puede hacer goz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nadie saca los costos de las necesidades fisiológicas de los jef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un pis puede valer 2 € y una caca sin prensa 4 y da miedo calcul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Alguien ha pensado lo que el consumo de fibra y diuréticos puede ocasio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abes cuantos niños del tercer mundo vivirían con esa mierda (dinero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4-29T19:51:58Z</dcterms:modified>
  <cp:revision>49</cp:revision>
  <dc:subject/>
  <dc:title>Diapositiva 1</dc:title>
</cp:coreProperties>
</file>