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C91-190C-417E-8284-999250F81C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04F-C648-4877-B116-2BD29360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43B-A850-4373-995D-5E7135C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A8F-CF3E-4F62-B9A0-74E8CAC0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CBF-7B7E-48C0-BC6B-D343869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63F-7C61-4607-A33E-3DF8C314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4E04-84F5-40F2-9376-A094B793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3CE3-5DC0-4A6D-895B-BDA7B7A6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1DB-821C-444A-AACC-AC817AD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6AF2-FF56-4B47-93E2-AE1B62C7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D2E1-823D-4423-B48E-6599E536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2D5-A98A-40D2-B170-28129B5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080-6436-4C9B-B375-BA2F3E6D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7490-9A8C-41F2-AE36-1AA0CF8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F09A-5C4D-4593-B608-F2BA8DEE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130-E23A-4B8B-9D26-A5297EF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2F8-FEE7-421F-913F-F5C5EC69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EF69-B93B-4FD0-8547-8E869FC1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10D-7A6E-4235-AD8E-61EA491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96E-E1C5-465B-8716-010A6123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65-3A48-42B5-A070-F809C70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36A-7CDB-4E86-8330-A064E98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57B-00AD-4767-804F-007CA5A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C01-E16B-4BBD-A9F0-C12D5FD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0D7-CE60-4453-BCE9-77802E0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5B8-2348-487E-B121-489DFC14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95C23-1CEA-4E44-85F9-081D09773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dicen que solo tengo una neurona y se me ocurren cos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con sus rebotes engañan a mi cerebr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para quien me lo dice, uno significa infinit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algunos documentos emitidos por ciertos “departamentos” de las empresas tienen tanto texto y yo no entiendo n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ada po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tienen la letra muy pequeña ? ¿ Será cuestión de enfoque y que si no te fijas, ni se no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86840" y="5791680"/>
            <a:ext cx="190980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59280" y="5850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36720" y="57934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nos hacen repetir varias veces un mismo trabaj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mos cortos de entendederas y nos viene bien el repetir las cosas varias ve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lgunos no saben mand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cuando le comentas algo a algún superior lo mas común que le oyes es la palabra qué …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e hablas muy bajit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te expresas muy m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te hace ni puto cas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lo que tu cuentas es dogma de fé y lo de los demás es pura falac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tienes vida, conocimientos, facultades y experiencias divin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¡ Serás fantasma……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i me separo del rebaño me tachan de oveja neg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e vuelven daltónic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 separarme me dá mucho mas el s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no soy carne de rebañ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 Por qué algunos jefes o no tan jefes, con el tiempo se reciclan y se convierten en perfectos y excelentes relaciones publicas y asesores de imagen, de su persona clar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a falta de trabajo les provoca brotes de eg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debido a la enigmática evolución de las espec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hay personas que no se pueden ni ver en el currelo y cuando se encuentran de frente, se sonrí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ufren micro cortes de amnes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n que son todos muy comercia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¡ Serán falsos los jodido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9:48:34Z</dcterms:modified>
  <cp:revision>56</cp:revision>
  <dc:subject/>
  <dc:title>Diapositiva 1</dc:title>
</cp:coreProperties>
</file>