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961-1F3E-4987-A2ED-3F7D6C5524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611-FD5E-47AD-B837-89304D9D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A52-0369-4B33-8C5A-115D3ED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A9C-1122-448D-8B15-3D66CE25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027-B2AA-485D-A024-EFB01D0D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736-E852-4BCB-8D24-0FBBCDD0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0C6B-1B33-4E49-BA19-C691A55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AA2F-0DA4-4EDC-B268-308167B3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3C55-5A08-40C9-B164-03C7EE37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138-0978-4D90-BAB7-760BEAB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993-81A0-4D3B-9886-6E9984A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177-AE9E-4A00-BEF2-3A8B306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75D-EB6B-4D25-9BAD-B656952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5D46-4D2A-4565-9AD7-8ABAE9B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BB06-CA53-4BAA-BD87-90D86D6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9D45-0EFF-4881-915C-134C4F9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10C8-B12D-4D12-B50D-2059FEA5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2ED-F4BB-48EE-A927-1ED3B91D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537-0236-4C58-9DE0-8F9D5F6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BD3-E882-43EB-A0C2-D4FA322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0DE-447C-4877-B351-ED2DA32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3E1-FEA6-4217-B670-195A46D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997-B4FA-4DDE-B453-21D0BAA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398-646A-47AB-ABA4-4A71270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BF-9757-4D82-BA9D-DF27277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7C6-CC12-4C68-9E1B-6B92CAB78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0E3EC-F99F-4F5B-B803-C834EB716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dicen que solo tengo una neurona y se me ocurren cos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con sus rebotes engañan a mi cerebr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para quien me lo dice, uno significa infinit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algunos documentos emitidos por ciertos “departamentos” de las empresas tienen tanto texto y yo no entiendo n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ada po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tienen la letra muy pequeña ? ¿ Será cuestión de enfoque y que si no te fijas, ni se no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86840" y="5791680"/>
            <a:ext cx="190980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59280" y="5850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nos hacen repetir varias veces un mismo trabaj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mos cortos de entendederas y nos viene bien el repetir las cosas varias ve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lgunos no saben mand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le comentas algo a algún superior lo mas común que le oyes es la palabra qué …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e hablas muy bajit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te expresas muy m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te hace ni puto cas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lo que tu cuentas es dogma de fé y lo de los demás es pura falac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tienes vida, conocimientos, facultades y experiencias divin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 Serás fantasma……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i me separo del rebaño me tachan de oveja neg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e vuelven daltónic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 separarme me dá mucho mas el s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soy carne de rebañ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 Por qué algunos jefes o no tan jefes, con el tiempo se reciclan y se convierten en perfectos y excelentes relaciones publicas y asesores de imagen, de su persona clar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a falta de trabajo les provoca brotes de eg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debido a la enigmática evolución de las espec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hay personas que no se pueden ni ver en el currelo y cuando se encuentran de frente, se sonrí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ufren micro cortes de amnes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n que son todos muy comercia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¡ Serán falsos los jodido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9:48:34Z</dcterms:modified>
  <cp:revision>56</cp:revision>
  <dc:subject/>
  <dc:title>Diapositiva 1</dc:title>
</cp:coreProperties>
</file>