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04760" y="727200"/>
            <a:ext cx="4848480" cy="36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81B0-6FF6-469F-A403-8ADC6BD91CD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B9E-AD89-4E83-97DD-D655817C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32F-DA95-4C81-B12D-7DB0749D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45DB-4DC9-4EDC-B2BF-023659AE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15F3-DD19-4DDC-94A3-6DC3F758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AD43-33B3-4E41-BD55-92E4F1D0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9236-1A96-4139-873B-D48EE53E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F5AC-4D0E-4CA3-BD59-AF1090C8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A5E4-ABB9-4E46-817B-CD474DE6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896E-4233-4453-B810-503A7FD9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BF26-2BF7-49C2-B49E-90E77A2B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FC20-C788-42C2-8739-69BCD0A0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8E2-1221-4BB4-BED7-4D043599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32DD-90FA-44C4-84B0-B5C532D7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BA3B-B4A7-4463-A77B-870AD8DC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AA4F-D4D0-4BB5-A10B-331A6A25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486E-A9A1-4E6B-AD76-A795B362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0992-4A48-4EA1-8B3A-B629EBF7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BCDE-0C76-408A-83FA-52113FC9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DF7-17E3-454E-8DCC-BAB549AC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5AC-7474-4A1E-A37E-FF6DD250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C9C-4F2E-49EE-9464-D13C9813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229-B240-4BAC-B359-315E093B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070-1E7F-481F-A553-85049BA5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DB25-37B9-4ED1-A809-A601A894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99880" indent="-29988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4840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CDB8F-1493-487B-B0F2-0597CCDF11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AD51-5A8D-45B1-9353-F005740FC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141300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451008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309840" y="1860480"/>
            <a:ext cx="49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Por qué será... ?</a:t>
            </a:r>
            <a:endParaRPr b="0" lang="en-US" sz="40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56000" y="5029200"/>
            <a:ext cx="4933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833c88"/>
                  </a:solidFill>
                  <a:miter/>
                </a:ln>
                <a:solidFill>
                  <a:srgbClr val="c17cc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Será por ... ?</a:t>
            </a:r>
            <a:endParaRPr b="0" lang="en-US" sz="4000" spc="1" strike="noStrike">
              <a:ln w="12600">
                <a:solidFill>
                  <a:srgbClr val="833c88"/>
                </a:solidFill>
                <a:miter/>
              </a:ln>
              <a:solidFill>
                <a:srgbClr val="c17cc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633840" y="3284640"/>
            <a:ext cx="482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l Parte</a:t>
            </a:r>
            <a:endParaRPr b="0" lang="en-US" sz="1800" spc="1" strike="noStrike">
              <a:ln w="1584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42920" y="33336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se solicita la opinión sincera de las personas, aunque esta, difiera de quien la solici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se recogen opiniones para agrandar los horizont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le sirve al solicitante para joder al opinan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7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los asuntos cuando más se alejan de uno, menos de uno s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que se internacionaliza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¿ Será verdad, que la distancia hace el olvido, si te he visto no me acuerdo y lo tuyo es mio, o son letras de canciones ? ¿ Será que no se comparti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33c88"/>
                </a:solidFill>
                <a:latin typeface="Arial"/>
              </a:rPr>
              <a:t>¡ Aprende a compartir cojone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8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79640" y="1376280"/>
            <a:ext cx="6478560" cy="493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será que me encuentro reflejado en tantos “Por qué …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soy human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 que los demás no me entienden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 que soy un cabrito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833c88"/>
                </a:solidFill>
                <a:latin typeface="Arial"/>
              </a:rPr>
              <a:t>¡¡ Coño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Y Por qué me quito añ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904120" y="5791680"/>
            <a:ext cx="191052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terior álb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7120" y="20016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620640"/>
            <a:ext cx="1946160" cy="5394240"/>
          </a:xfrm>
          <a:custGeom>
            <a:avLst/>
            <a:gdLst>
              <a:gd name="textAreaLeft" fmla="*/ 360 w 1946160"/>
              <a:gd name="textAreaRight" fmla="*/ 1945800 w 1946160"/>
              <a:gd name="textAreaTop" fmla="*/ 360 h 5394240"/>
              <a:gd name="textAreaBottom" fmla="*/ 5393880 h 5394240"/>
            </a:gdLst>
            <a:ahLst/>
            <a:rect l="textAreaLeft" t="textAreaTop" r="textAreaRight" b="textAreaBottom"/>
            <a:pathLst>
              <a:path w="21600" h="59862">
                <a:moveTo>
                  <a:pt x="17" y="0"/>
                </a:moveTo>
                <a:arcTo wR="17" hR="17" stAng="16200000" swAng="-5400000"/>
                <a:lnTo>
                  <a:pt x="0" y="59845"/>
                </a:lnTo>
                <a:arcTo wR="17" hR="17" stAng="10800000" swAng="-5400000"/>
                <a:lnTo>
                  <a:pt x="21583" y="59862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8000" y="2924280"/>
            <a:ext cx="6624720" cy="223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¡ Jodo cuantas cosas desconozco 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3809880" cy="342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395280" y="84132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3203640" y="50133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675640" y="189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33200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0" name="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8664480" y="63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3056040" y="58881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406480" y="5791680"/>
            <a:ext cx="204408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guiente álbu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1"/>
          <a:stretch/>
        </p:blipFill>
        <p:spPr>
          <a:xfrm>
            <a:off x="7093080" y="58770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38560" y="1341360"/>
            <a:ext cx="6337080" cy="4897440"/>
          </a:xfrm>
          <a:prstGeom prst="roundRect">
            <a:avLst>
              <a:gd name="adj" fmla="val 76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Todo lo que a continuación  intento exponer, es fruto de mi experiencia. Acumulada, en 61 años de vida natural, con 45 de labo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. M. Lato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755640" y="26028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68360" y="4437000"/>
            <a:ext cx="612144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O será mi imaginación 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fijándote en el muñeco de la izquierda, compruebas que a pesar de ser de oro, tiene una proyección morada y una sombra, tan negr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s un misterio de la físic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algunos nacemos así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solo un efecto óptic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0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el pelotón del “SI” léase becarios, temporales, subcontratados, etc. nunca dicen no, a lo que se les solicit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los trabajador@s de hoy son muy capac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sus días son de 28 h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están agarrad@s de las pel..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1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algunas personas imponen sus criterios en un tema, si lo desconocen y jamás trabajarán en é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poseen la verda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n adivin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por aplicar el articulo 3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2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la gente jadea, suspira, grazna  y gime, si solo está cambiando el lapicero de lugar, en la mes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un trabajo descomuna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 un gran esfuerzo intelectua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 jodido teatro labora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3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los políticos hablan de lo que es mejor para el pueblo y los sindicalistas, para los trabajad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se refieren a los suyos o sus parient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é yo un marcian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A que remota galaxia pertenezc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4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las gentes con algún defecto físico, nos parecen además, tontos, ciegos y sord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833c88"/>
                </a:solidFill>
                <a:latin typeface="Arial"/>
              </a:rPr>
              <a:t>¿ Será cierto que la cojera desequilibra el cerebr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833c88"/>
                </a:solidFill>
                <a:latin typeface="Arial"/>
              </a:rPr>
              <a:t>¿ Serán verdaderamente. seres mas inferiores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833c88"/>
                </a:solidFill>
                <a:latin typeface="Arial"/>
              </a:rPr>
              <a:t>¿Será que somos gilipollas, los que los vemos de esa maner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5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tantos creen que mi tara es ser miope, cuando mi mayor desgracia es tener un oído de tís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creen que mis gafas traen patillas con tapon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 que tiene algo que ver con el Por qué anteri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6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6:46:22Z</dcterms:created>
  <dc:creator>JOSE MANUEL LATORRE</dc:creator>
  <dc:description/>
  <dc:language>en-US</dc:language>
  <cp:lastModifiedBy>aita-j m latorre</cp:lastModifiedBy>
  <dcterms:modified xsi:type="dcterms:W3CDTF">2007-04-29T18:40:36Z</dcterms:modified>
  <cp:revision>58</cp:revision>
  <dc:subject/>
  <dc:title>Diapositiva 1</dc:title>
</cp:coreProperties>
</file>