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04760" y="727200"/>
            <a:ext cx="4848480" cy="36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7396-61FA-4FAF-A8D6-475CCF4A101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75A9-9D7C-462F-9A08-E6982C4E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7794-14FA-4962-BFEC-3D220D80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162A-DC7D-4D15-A855-1F9B3E03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965B-9CEF-40FA-B6DA-5A044DA8D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3836-B491-43EC-9682-52879B15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EBD4-3C38-44A3-9D3E-9812BA6D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7DC3-7B79-444F-A809-565702C6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56E7-4BBD-4668-9B5C-D647C675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048A-0763-46BA-AE7A-B7FF7F69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A15B-A767-4957-836A-BCE0C5B1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7722-F05C-45C2-9F64-E00772B8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B559-B8DF-4C15-BABB-BAD14009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7E05-7DD1-4DEC-81E2-EF085DDF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7CB0-7BAF-4C54-88CD-25D33957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9E18-4544-4942-BE3A-67E83D03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5F2E-DA13-426F-9505-BC22445DF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9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00D3-0D55-46AE-BD85-869B1026A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1D4E-3E4F-4619-9DA1-96602790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E227-8F8A-4B41-89C3-041DE353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F6E6-A861-41C3-9085-B3DC2960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5C1F-EACD-49DE-9081-18B7876E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99AF-FBC8-46A1-850C-562831EE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2376-63FD-4FFD-B141-77F62A2A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850D-43C7-4AFA-A3F0-08F2C4B3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99880" indent="-29988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-24840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240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861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243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BC5C4-7303-443C-90AA-640AAE7227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CC36-8F98-47DA-9319-79E58977A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6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40000" y="1413000"/>
            <a:ext cx="611820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40000" y="4510080"/>
            <a:ext cx="611820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309840" y="1860480"/>
            <a:ext cx="4934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 Por qué será... ?</a:t>
            </a:r>
            <a:endParaRPr b="0" lang="en-US" sz="4000" spc="1" strike="noStrike">
              <a:ln w="12600">
                <a:solidFill>
                  <a:srgbClr val="ff99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556000" y="5029200"/>
            <a:ext cx="4933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833c88"/>
                  </a:solidFill>
                  <a:miter/>
                </a:ln>
                <a:solidFill>
                  <a:srgbClr val="c17cc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 Será por ... ?</a:t>
            </a:r>
            <a:endParaRPr b="0" lang="en-US" sz="4000" spc="1" strike="noStrike">
              <a:ln w="12600">
                <a:solidFill>
                  <a:srgbClr val="833c88"/>
                </a:solidFill>
                <a:miter/>
              </a:ln>
              <a:solidFill>
                <a:srgbClr val="c17cc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633840" y="3284640"/>
            <a:ext cx="482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l Parte</a:t>
            </a:r>
            <a:endParaRPr b="0" lang="en-US" sz="1800" spc="1" strike="noStrike">
              <a:ln w="1584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42920" y="333360"/>
            <a:ext cx="7777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 Por qué se solicita la opinión sincera de las personas, aunque esta, difiera de quien la solici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que se recogen opiniones para agrandar los horizont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que le sirve al solicitante para joder al opinant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7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 Por qué los asuntos cuando más se alejan de uno, menos de uno s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 Será que se internacionaliza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 Será verdad, que la distancia hace el olvido, si te he visto no me acuerdo y lo tuyo es mio, o son letras de canciones ? ¿ Será que no se comparti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¡ Aprende a compartir cojone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8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79640" y="1376280"/>
            <a:ext cx="6478560" cy="4932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 Por qué será que me encuentro reflejado en tantos “Por qué …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que soy human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Será que los demás no me entienden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Será que soy un cabrito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833c88"/>
                </a:solidFill>
                <a:latin typeface="Arial"/>
              </a:rPr>
              <a:t>¡¡ Coño 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Y Por qué me quito año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161928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904120" y="5791680"/>
            <a:ext cx="1910520" cy="390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terior álb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7120" y="20016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620640"/>
            <a:ext cx="1946160" cy="5394240"/>
          </a:xfrm>
          <a:custGeom>
            <a:avLst/>
            <a:gdLst>
              <a:gd name="textAreaLeft" fmla="*/ 360 w 1946160"/>
              <a:gd name="textAreaRight" fmla="*/ 1945800 w 1946160"/>
              <a:gd name="textAreaTop" fmla="*/ 360 h 5394240"/>
              <a:gd name="textAreaBottom" fmla="*/ 5393880 h 5394240"/>
            </a:gdLst>
            <a:ahLst/>
            <a:rect l="textAreaLeft" t="textAreaTop" r="textAreaRight" b="textAreaBottom"/>
            <a:pathLst>
              <a:path w="21600" h="59862">
                <a:moveTo>
                  <a:pt x="17" y="0"/>
                </a:moveTo>
                <a:arcTo wR="17" hR="17" stAng="16200000" swAng="-5400000"/>
                <a:lnTo>
                  <a:pt x="0" y="59845"/>
                </a:lnTo>
                <a:arcTo wR="17" hR="17" stAng="10800000" swAng="-5400000"/>
                <a:lnTo>
                  <a:pt x="21583" y="59862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8000" y="2924280"/>
            <a:ext cx="6624720" cy="2233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7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¡ Jodo cuantas cosas desconozco 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3419640" y="4869000"/>
            <a:ext cx="3809880" cy="3427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395280" y="84132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3203640" y="50133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8675640" y="189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8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133200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10" name="" descr="">
            <a:hlinkClick r:id="" action="ppaction://hlinkshowjump?jump=endshow"/>
          </p:cNvPr>
          <p:cNvPicPr/>
          <p:nvPr/>
        </p:nvPicPr>
        <p:blipFill>
          <a:blip r:embed="rId9"/>
          <a:stretch/>
        </p:blipFill>
        <p:spPr>
          <a:xfrm>
            <a:off x="8664480" y="63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0"/>
          <a:stretch/>
        </p:blipFill>
        <p:spPr>
          <a:xfrm>
            <a:off x="3056040" y="588816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406480" y="5791680"/>
            <a:ext cx="2044080" cy="390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iguiente álbu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1"/>
          <a:stretch/>
        </p:blipFill>
        <p:spPr>
          <a:xfrm>
            <a:off x="7093080" y="587700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38560" y="1341360"/>
            <a:ext cx="6337080" cy="4897440"/>
          </a:xfrm>
          <a:prstGeom prst="roundRect">
            <a:avLst>
              <a:gd name="adj" fmla="val 76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Todo lo que a continuación  intento exponer, es fruto de mi experiencia. Acumulada, en 61 años de vida natural, con 45 de labo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. M. Lator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755640" y="260280"/>
            <a:ext cx="7777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68360" y="4437000"/>
            <a:ext cx="6121440" cy="14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85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O será mi imaginación 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fijándote en el muñeco de la izquierda, compruebas que a pesar de ser de oro, tiene una proyección morada y una sombra, tan negr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es un misterio de la físic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algunos nacemos así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solo un efecto óptic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0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el pelotón del “SI” léase becarios, temporales, subcontratados, etc. nunca dicen no, a lo que se les solicit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los trabajador@s de hoy son muy capac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que sus días son de 28 h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que están agarrad@s de las pel..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1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algunas personas imponen sus criterios en un tema, si lo desconocen y jamás trabajarán en él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que poseen la verda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n adivino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por aplicar el articulo 3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2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la gente jadea, suspira, grazna  y gime, si solo está cambiando el lapicero de lugar, en la mes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un trabajo descomunal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Será un gran esfuerzo intelectual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Será jodido teatro laboral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3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 Por qué los políticos hablan de lo que es mejor para el pueblo y los sindicalistas, para los trabajado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que se refieren a los suyos o sus parient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é yo un marcian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A que remota galaxia pertenezc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4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 Por qué las gentes con algún defecto físico, nos parecen además, tontos, ciegos y sordo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833c88"/>
                </a:solidFill>
                <a:latin typeface="Arial"/>
              </a:rPr>
              <a:t>¿ Será cierto que la cojera desequilibra el cerebro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833c88"/>
                </a:solidFill>
                <a:latin typeface="Arial"/>
              </a:rPr>
              <a:t>¿ Serán verdaderamente. seres mas inferiores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833c88"/>
                </a:solidFill>
                <a:latin typeface="Arial"/>
              </a:rPr>
              <a:t>¿Será que somos gilipollas, los que los vemos de esa maner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5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 Por qué tantos creen que mi tara es ser miope, cuando mi mayor desgracia es tener un oído de tís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que creen que mis gafas traen patillas con tapon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Será que tiene algo que ver con el Por qué anterio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6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6:46:22Z</dcterms:created>
  <dc:creator>JOSE MANUEL LATORRE</dc:creator>
  <dc:description/>
  <dc:language>en-US</dc:language>
  <cp:lastModifiedBy>aita-j m latorre</cp:lastModifiedBy>
  <dcterms:modified xsi:type="dcterms:W3CDTF">2007-04-29T18:40:36Z</dcterms:modified>
  <cp:revision>58</cp:revision>
  <dc:subject/>
  <dc:title>Diapositiva 1</dc:title>
</cp:coreProperties>
</file>