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3F61-B849-4C0F-B6E1-6EAFF21B59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736560"/>
            <a:ext cx="2571840" cy="36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7EE-D3DB-48E8-A791-7DB17438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4A7-3116-467B-A2F7-0F2F1E8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372-2A80-47ED-B88C-39696B3A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E7B-CBA9-455E-AE85-F7C4E8E4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006E-3F5B-4BCD-B8AE-E41F5239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56BA-01A8-46E1-8281-82497DE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6E1-6DB2-4431-8338-FFB35B8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6716-031E-403C-BC16-D97FE0B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48D-7835-40E4-8B40-61F5554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9937-59EF-4902-ACA0-95272BDE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AE80-D1C5-4474-B5F4-34C74892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2A8-7E1F-4F20-AF7F-D7E2272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A4FA-5C98-4187-8637-FB6DBCF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5A24-8E00-4ACA-88F5-4AACF69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0DF-0673-4981-BCB5-9A6BF57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EAF-B1F1-4C5E-89F2-13EFF02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4D4-218B-45E1-91CC-D1F243DB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D16-F0DB-4DB0-83F8-42DD724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567-75FB-4D5F-8BDB-990F9C4B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852-7DCE-4D26-8976-9539513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B95-E73C-4BCE-8F12-CE32D33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4BF-B34F-4EBF-9BC8-A9C5096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4AF-2263-49F8-ABD5-6E988E8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A52-082F-4581-8C89-D3AB75B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FF5-3FCF-4D49-90A1-69B7E333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128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99880" indent="-29988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4840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12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A4F9D-C851-49DD-A8AF-A6B181EEF2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por_que.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41300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510080"/>
            <a:ext cx="611820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09840" y="186048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será... ?</a:t>
            </a:r>
            <a:endParaRPr b="0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56000" y="5029200"/>
            <a:ext cx="4933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833c88"/>
                  </a:solidFill>
                  <a:miter/>
                </a:ln>
                <a:solidFill>
                  <a:srgbClr val="c17cc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Será por ... ?</a:t>
            </a:r>
            <a:endParaRPr b="0" lang="en-US" sz="4000" spc="1" strike="noStrike">
              <a:ln w="12600">
                <a:solidFill>
                  <a:srgbClr val="833c88"/>
                </a:solidFill>
                <a:miter/>
              </a:ln>
              <a:solidFill>
                <a:srgbClr val="c17cc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3840" y="3284640"/>
            <a:ext cx="48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Parte</a:t>
            </a:r>
            <a:endParaRPr b="0" lang="en-US" sz="1800" spc="1" strike="noStrike">
              <a:ln w="1584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33336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en las oficinas hay varios camareros y botones si no son hoteles ni restaura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os gusta atender bi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l que manda le gusta que le pongan las cosas en el morr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7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el pelotón del “SI” léase becarios, temporales, subcontratados, etc. nunca dicen no, a lo que se les solici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os trabajador@s de hoy son muy capa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sus días son de 28 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que están agarrad@s de las pel.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8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376280"/>
            <a:ext cx="6478560" cy="493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será que me encuentro reflejado en tantos “Por qué …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soy human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los demás no me entiend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Será que soy un cabrito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33c88"/>
                </a:solidFill>
                <a:latin typeface="Arial"/>
              </a:rPr>
              <a:t>¡¡ Coño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Y Por qué me quito añ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30120" y="5791680"/>
            <a:ext cx="100116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20" y="20016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20640"/>
            <a:ext cx="1946160" cy="5394240"/>
          </a:xfrm>
          <a:custGeom>
            <a:avLst/>
            <a:gdLst>
              <a:gd name="textAreaLeft" fmla="*/ 360 w 1946160"/>
              <a:gd name="textAreaRight" fmla="*/ 1945800 w 1946160"/>
              <a:gd name="textAreaTop" fmla="*/ 360 h 5394240"/>
              <a:gd name="textAreaBottom" fmla="*/ 5393880 h 5394240"/>
            </a:gdLst>
            <a:ahLst/>
            <a:rect l="textAreaLeft" t="textAreaTop" r="textAreaRight" b="textAreaBottom"/>
            <a:pathLst>
              <a:path w="21600" h="59862">
                <a:moveTo>
                  <a:pt x="17" y="0"/>
                </a:moveTo>
                <a:arcTo wR="17" hR="17" stAng="16200000" swAng="-5400000"/>
                <a:lnTo>
                  <a:pt x="0" y="59845"/>
                </a:lnTo>
                <a:arcTo wR="17" hR="17" stAng="10800000" swAng="-5400000"/>
                <a:lnTo>
                  <a:pt x="21583" y="59862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924280"/>
            <a:ext cx="6624720" cy="22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 Jodo cuantas cosas desconozco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3809880" cy="342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95280" y="8413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203640" y="501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67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33200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0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664480" y="63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094200" y="58881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11520" y="5791680"/>
            <a:ext cx="2044080" cy="39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uiente álbu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089840" y="587376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8560" y="1341360"/>
            <a:ext cx="6337080" cy="4897440"/>
          </a:xfrm>
          <a:prstGeom prst="roundRect">
            <a:avLst>
              <a:gd name="adj" fmla="val 76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odo lo que a continuación  intento exponer, es fruto de mi experiencia. Acumulada, en 61 años de vida natural, con 45 de lab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 M. Lat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55640" y="260280"/>
            <a:ext cx="7777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68360" y="44370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O será mi imaginación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fijándote en el muñeco de la izquierda, compruebas que a pesar de ser de oro, tiene una proyección morada y una sombra, tan neg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es un misterio de la físic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algunos nacemos as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Será solo un efecto óptic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19280" y="26028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0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“currelas” sudan tanto si no trabajan nad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tienen problemas con las glándulas sudoríparas y las tengan muy desarrollad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que fing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1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algunos “jefes” no disfrutan el mes de vacaciones segui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¿ Será porque no pue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Decía un jefe, que el, en 25 años nunca pudo coger vacaciones, porque entonces, se hubiese descubierto que no hacia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33c88"/>
                </a:solidFill>
                <a:latin typeface="Arial"/>
              </a:rPr>
              <a:t>(veríd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2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 Por qué se disfruta de las horas “sindicales” en la playa o en el mo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833c88"/>
                </a:solidFill>
                <a:latin typeface="Arial"/>
              </a:rPr>
              <a:t>¿ Será que la naturaleza nos inunda de sabiduría, nos inspira, nos aclara las ideas,  será por…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3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superiores creen que la jornada laboral de los subalternos no tiene f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no tienen conciencia “del trabajar se entiende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4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empresarios creen que 3+3 son 5 y los trabajadores piensan que tiene que ser una multiplicació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andan mal de cuent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es faltan “datos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joder la marran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5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0"/>
            <a:ext cx="2340000" cy="6483240"/>
          </a:xfrm>
          <a:custGeom>
            <a:avLst/>
            <a:gdLst>
              <a:gd name="textAreaLeft" fmla="*/ 360 w 2340000"/>
              <a:gd name="textAreaRight" fmla="*/ 2339640 w 2340000"/>
              <a:gd name="textAreaTop" fmla="*/ 360 h 6483240"/>
              <a:gd name="textAreaBottom" fmla="*/ 6482880 h 6483240"/>
            </a:gdLst>
            <a:ahLst/>
            <a:rect l="textAreaLeft" t="textAreaTop" r="textAreaRight" b="textAreaBottom"/>
            <a:pathLst>
              <a:path w="21600" h="59839">
                <a:moveTo>
                  <a:pt x="14" y="0"/>
                </a:moveTo>
                <a:arcTo wR="14" hR="14" stAng="16200000" swAng="-5400000"/>
                <a:lnTo>
                  <a:pt x="0" y="59825"/>
                </a:lnTo>
                <a:arcTo wR="14" hR="14" stAng="10800000" swAng="-5400000"/>
                <a:lnTo>
                  <a:pt x="21586" y="5983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37628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 Por qué los jefes a los súper jefes solo les cuentan lo que estos quieren oír y omiten las resta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933720"/>
            <a:ext cx="6478560" cy="23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que los súper jefes no procesan bien todos los dat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Será por no molesta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33c88"/>
                </a:solidFill>
                <a:latin typeface="Arial"/>
              </a:rPr>
              <a:t>¿ Por qué será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880" y="1343160"/>
            <a:ext cx="2040120" cy="50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619280" y="276120"/>
            <a:ext cx="7129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¿ 6º -Por qué será...?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>
                      <a:alpha val="80392"/>
                    </a:srgbClr>
                  </a:gs>
                </a:gsLst>
                <a:lin ang="5400000"/>
              </a:gra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45960" y="216000"/>
            <a:ext cx="287280" cy="86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865080"/>
              <a:gd name="textAreaBottom" fmla="*/ 851040 h 865080"/>
            </a:gdLst>
            <a:ahLst/>
            <a:rect l="textAreaLeft" t="textAreaTop" r="textAreaRight" b="textAreaBottom"/>
            <a:pathLst>
              <a:path w="21600" h="64989">
                <a:moveTo>
                  <a:pt x="3600" y="0"/>
                </a:moveTo>
                <a:arcTo wR="3600" hR="3600" stAng="16200000" swAng="-5400000"/>
                <a:lnTo>
                  <a:pt x="0" y="61389"/>
                </a:lnTo>
                <a:arcTo wR="3600" hR="3600" stAng="10800000" swAng="-5400000"/>
                <a:lnTo>
                  <a:pt x="18000" y="6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440" y="8380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95280" y="58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667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46:22Z</dcterms:created>
  <dc:creator>JOSE MANUEL LATORRE</dc:creator>
  <dc:description/>
  <dc:language>en-US</dc:language>
  <cp:lastModifiedBy>aita-j m latorre</cp:lastModifiedBy>
  <dcterms:modified xsi:type="dcterms:W3CDTF">2007-04-29T18:36:33Z</dcterms:modified>
  <cp:revision>57</cp:revision>
  <dc:subject/>
  <dc:title>Diapositiva 1</dc:title>
</cp:coreProperties>
</file>