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F496-4011-4586-8CA5-89CC7E3538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6B5-1F10-49C0-BE8E-E7A0E659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288-A99B-4793-B063-653221F3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74B-D74E-4C54-A9A8-50D7B661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06A-A878-4E75-858D-D916D989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8331-F17B-4C8B-8628-4D6A6C40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0C80-81E4-4129-A540-8C3C58D1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7CBF-9F49-4C62-AFDA-7D81B4D0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3A6F-278D-42B1-AB6C-A72EB8A9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6004-609D-493A-9745-E34DF9F9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ADC5-DC79-4AEE-B6CC-4FAF8D71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52F0-A76F-4470-8176-4D57D211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BCB-20C9-429D-B68D-FDB1A480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FF96-CC14-4CE8-AB3E-ACBC7323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9A07-1620-4D1F-BF32-3BA0B1C1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90DA-DBFF-41A5-BEC3-826C55E3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15FF-2EEE-4E63-B7B4-C3AE77B4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66C5-E67E-4D2F-8566-D8F2FD21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753-7755-46D1-BFBE-979FC989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D99-53EF-4742-BC33-09014376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25A-AF3D-4B4E-9917-9A4321A6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25C-9D77-4EF3-9F6F-5508771D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39B-7AA1-417D-8522-E9193DA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366-4135-492A-9DE6-7767E6D7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B4D-F161-4F30-B3F7-BE81839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1769-03A8-4D7A-817A-243563FD2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A6883-7CD1-4416-BDC4-F130E1835E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5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en las oficinas hay varios camareros y botones si no son hoteles ni restauran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nos gusta atender bi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al que manda le gusta que le pongan las cosas en el morr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el pelotón del “SI” léase becarios, temporales, subcontratados, etc. nunca dicen no, a lo que se les solicit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los trabajador@s de hoy son muy capac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us días son de 28 h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están agarrad@s de las pel.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los demás no me entiend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30120" y="5791680"/>
            <a:ext cx="100116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0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3094200" y="58881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411520" y="57916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7089840" y="5873760"/>
            <a:ext cx="193680" cy="1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algunos “currelas” sudan tanto si no trabajan nad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tienen problemas con las glándulas sudoríparas y las tengan muy desarrollad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porque fing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algunos “jefes” no disfrutan el mes de vacaciones segui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33c88"/>
                </a:solidFill>
                <a:latin typeface="Arial"/>
              </a:rPr>
              <a:t>¿ Será porque no pued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33c88"/>
                </a:solidFill>
                <a:latin typeface="Arial"/>
              </a:rPr>
              <a:t>Decía un jefe, que el, en 25 años nunca pudo coger vacaciones, porque entonces, se hubiese descubierto que no hacia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33c88"/>
                </a:solidFill>
                <a:latin typeface="Arial"/>
              </a:rPr>
              <a:t>(veríd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e disfruta de las horas “sindicales” en la playa o en el mon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la naturaleza nos inunda de sabiduría, nos inspira, nos aclara las ideas,  será por…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los superiores creen que la jornada laboral de los subalternos no tiene fi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no tienen conciencia “del trabajar se entiende”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los empresarios creen que 3+3 son 5 y los trabajadores piensan que tiene que ser una multiplicació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andan mal de cuent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les faltan “datos”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por joder la marran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los jefes a los súper jefes solo les cuentan lo que estos quieren oír y omiten las restan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los súper jefes no procesan bien todos los dat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por no molesta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Por qué será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6:46:22Z</dcterms:created>
  <dc:creator>JOSE MANUEL LATORRE</dc:creator>
  <dc:description/>
  <dc:language>en-US</dc:language>
  <cp:lastModifiedBy>aita-j m latorre</cp:lastModifiedBy>
  <dcterms:modified xsi:type="dcterms:W3CDTF">2007-04-29T18:36:33Z</dcterms:modified>
  <cp:revision>57</cp:revision>
  <dc:subject/>
  <dc:title>Diapositiva 1</dc:title>
</cp:coreProperties>
</file>