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9F08-7124-4087-8572-756AF4CF5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C61C-11DE-4D11-9B8E-AAB26ACA3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CDCE-C8E6-47CB-B0CA-F17CF7BEF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E026-5C4C-46CE-9FDE-00EB059D7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F44B-BA35-47AD-8C41-C1F05F6C5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FE33-6FD5-4C4C-97E0-8DBA5D783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CAEC-AD32-4177-A32C-4E50C9311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3E7C-7123-4825-AC1B-B50E60F36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7C37-A550-42E6-8CB1-E838B70D7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9189-0D21-4367-A3BF-2A692679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945A-3D39-4536-98E4-C15662D4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BA69-E207-481F-9480-9E487383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1FABDA5-6284-4D69-B565-3D03B9294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843280" y="333360"/>
            <a:ext cx="4033800" cy="936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750000"/>
                    </a:gs>
                    <a:gs pos="100000">
                      <a:srgbClr val="ff0000"/>
                    </a:gs>
                  </a:gsLst>
                  <a:lin ang="10800000"/>
                </a:gradFill>
                <a:latin typeface="Impact"/>
              </a:rPr>
              <a:t>EL POB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750000"/>
                  </a:gs>
                  <a:gs pos="100000">
                    <a:srgbClr val="ff0000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6659640" y="6237360"/>
            <a:ext cx="1728720" cy="3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TU NOMB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4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MUSKIZ-Bizkaia</a:t>
            </a:r>
            <a:r>
              <a:rPr b="1" i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Arial"/>
              </a:rPr>
              <a:t>1ª.- PRODUC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Arial"/>
              </a:rPr>
              <a:t>2008-09-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59280" y="404640"/>
            <a:ext cx="3600360" cy="574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750000"/>
                    </a:gs>
                    <a:gs pos="100000">
                      <a:srgbClr val="ff0000"/>
                    </a:gs>
                  </a:gsLst>
                  <a:lin ang="10800000"/>
                </a:gradFill>
                <a:latin typeface="Impact"/>
              </a:rPr>
              <a:t>1ª PRODUCC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750000"/>
                  </a:gs>
                  <a:gs pos="100000">
                    <a:srgbClr val="ff0000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animClr clrSpc="rgb">
                                      <p:cBhvr>
                                        <p:cTn id="1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1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0"/>
                            </p:stCondLst>
                            <p:childTnLst>
                              <p:par>
                                <p:cTn id="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500"/>
                            </p:stCondLst>
                            <p:childTnLst>
                              <p:par>
                                <p:cTn id="3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195640" y="295272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547640" y="364500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971640" y="436572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2700360" y="220500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3132000" y="1484280"/>
            <a:ext cx="476280" cy="476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403280" y="5084640"/>
            <a:ext cx="6696000" cy="1295640"/>
          </a:xfrm>
          <a:prstGeom prst="flowChartAlternateProcess">
            <a:avLst/>
          </a:prstGeom>
          <a:gradFill rotWithShape="0">
            <a:gsLst>
              <a:gs pos="0">
                <a:srgbClr val="ff0000"/>
              </a:gs>
              <a:gs pos="50000">
                <a:srgbClr val="75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FCDSDADDASDASDASDASDASDASDDASDADASDASDADADADBHFGHFHHFG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08360" y="1557360"/>
            <a:ext cx="3024360" cy="361800"/>
          </a:xfrm>
          <a:prstGeom prst="flowChartAlternateProcess">
            <a:avLst/>
          </a:prstGeom>
          <a:gradFill rotWithShape="0">
            <a:gsLst>
              <a:gs pos="0">
                <a:srgbClr val="ff0000"/>
              </a:gs>
              <a:gs pos="50000">
                <a:srgbClr val="75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º.-DFCDSDADDAS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2276640"/>
            <a:ext cx="3024000" cy="361800"/>
          </a:xfrm>
          <a:prstGeom prst="flowChartAlternateProcess">
            <a:avLst/>
          </a:prstGeom>
          <a:gradFill rotWithShape="0">
            <a:gsLst>
              <a:gs pos="0">
                <a:srgbClr val="ff0000"/>
              </a:gs>
              <a:gs pos="50000">
                <a:srgbClr val="75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º.-DFCDSDADDAS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71640" y="2997360"/>
            <a:ext cx="3024360" cy="361800"/>
          </a:xfrm>
          <a:prstGeom prst="flowChartAlternateProcess">
            <a:avLst/>
          </a:prstGeom>
          <a:gradFill rotWithShape="0">
            <a:gsLst>
              <a:gs pos="0">
                <a:srgbClr val="ff0000"/>
              </a:gs>
              <a:gs pos="50000">
                <a:srgbClr val="75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º.-DFCDSDADDAS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24000" y="3716280"/>
            <a:ext cx="3024360" cy="362160"/>
          </a:xfrm>
          <a:prstGeom prst="flowChartAlternateProcess">
            <a:avLst/>
          </a:prstGeom>
          <a:gradFill rotWithShape="0">
            <a:gsLst>
              <a:gs pos="0">
                <a:srgbClr val="ff0000"/>
              </a:gs>
              <a:gs pos="50000">
                <a:srgbClr val="75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º.-DFCDSDADDAS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4437000"/>
            <a:ext cx="3024360" cy="362160"/>
          </a:xfrm>
          <a:prstGeom prst="flowChartAlternateProcess">
            <a:avLst/>
          </a:prstGeom>
          <a:gradFill rotWithShape="0">
            <a:gsLst>
              <a:gs pos="0">
                <a:srgbClr val="ff0000"/>
              </a:gs>
              <a:gs pos="50000">
                <a:srgbClr val="75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º.-DFCDSDADDAS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34920" y="-720"/>
            <a:ext cx="5041800" cy="7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ª PRODUC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34920" y="-720"/>
            <a:ext cx="5041800" cy="7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ª PRODUC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848360" cy="42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lnSpc>
                <a:spcPct val="104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GJJEJPDGJPDGJPG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104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VDÑGFMÑDVÑKÑMÑMÑMÑMÑ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104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,ÑÑFÑG,´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104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GL´L´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104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FG,ÑGGF´ÑG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104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G,GF,DFGKDFGÑDF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104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FGGDG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104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FFFDGDFGG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104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DF,OÑDFKÑGFLÑFGFDFGLG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104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FGMMLDFGDFLLG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104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2997000"/>
            <a:ext cx="822960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10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CRIPCIONESCVV´LFLDLL´LFL´VLD´LD´L´L´VL´FL´PDFLDF´PLLF´PLLLGHLF´PFÑ´Ñ,F´P´PL´ÑPNH´ÑPÑPÑK´ÑPGKÑPK´ÑPHL´ÑGLPF´P`PGFH`PHKGF`NBGGFB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1834920" y="-720"/>
            <a:ext cx="5041800" cy="7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ª PRODUC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2997000"/>
            <a:ext cx="822960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10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CRIPCIONESCVV´LFLDLL´LFL´VLD´LD´L´L´VL´FL´PDFLDF´PLLF´PLLLGHLF´PFÑ´Ñ,F´P´PL´ÑPNH´ÑPÑPÑK´ÑPGKÑPK´ÑPHL´ÑGLPF´P`PGFH`PHKGF`NBGGFB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1834920" y="-720"/>
            <a:ext cx="5041800" cy="7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ª PRODUC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2997360"/>
            <a:ext cx="58435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4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CLUSIONES Y OTROS T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651640" y="4653000"/>
            <a:ext cx="1726920" cy="17272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1834920" y="-720"/>
            <a:ext cx="5041800" cy="7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ª PRODUC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 MANUEL LATORRE</dc:creator>
  <dc:description/>
  <dc:language>en-US</dc:language>
  <cp:lastModifiedBy>aita-j m latorre</cp:lastModifiedBy>
  <dcterms:modified xsi:type="dcterms:W3CDTF">2008-02-22T18:55:18Z</dcterms:modified>
  <cp:revision>4</cp:revision>
  <dc:subject/>
  <dc:title>Diapositiva 1</dc:title>
</cp:coreProperties>
</file>