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34C-8719-4EBA-8CB0-671F6181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7F7-3A8D-4B86-8AB8-E4E6DAA1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BCE-938B-492A-8DE9-FD41D0BB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766-06C6-4C01-86FD-FE780E25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B1C-E0B9-4C91-9B20-CAA9E52A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801-C3DC-414C-8E68-7D58B896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BBF-89F4-41C1-95C7-3227A563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82C-B88D-4D25-8593-89D0BC47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33B-F852-404A-B85F-F2A71BD6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DC0-DA3C-4FB8-876D-A39B2BF6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826-46D9-440E-A077-FA6FBD78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240-BEEF-4DFB-9C2A-76149D3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77FDDE-158C-4F26-A175-8288C9D70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43280" y="333360"/>
            <a:ext cx="403380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Impact"/>
              </a:rPr>
              <a:t>EL POB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750000"/>
                  </a:gs>
                  <a:gs pos="100000">
                    <a:srgbClr val="ff00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659640" y="6237360"/>
            <a:ext cx="17287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U NOM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USKIZ-Bizkaia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1ª.- 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2008-09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404640"/>
            <a:ext cx="3600360" cy="57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Impact"/>
              </a:rPr>
              <a:t>1ª PRODUCC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750000"/>
                  </a:gs>
                  <a:gs pos="100000">
                    <a:srgbClr val="ff00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animClr clrSpc="rgb">
                                      <p:cBhvr>
                                        <p:cTn id="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5640" y="295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47640" y="3645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2205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132000" y="1484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5084640"/>
            <a:ext cx="6696000" cy="129564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CDSDADDASDASDASDASDASDASDDASDADASDASDADADADBHFGHFHHFG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1557360"/>
            <a:ext cx="3024360" cy="36180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276640"/>
            <a:ext cx="3024000" cy="36180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997360"/>
            <a:ext cx="3024360" cy="36180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3716280"/>
            <a:ext cx="3024360" cy="3621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437000"/>
            <a:ext cx="3024360" cy="36216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º.-DFCDSDADDAS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8483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GJJEJPDGJPDGJP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VDÑGFMÑDVÑKÑMÑMÑMÑMÑ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,ÑÑFÑG,´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GL´L´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G,ÑGGF´Ñ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G,GF,DFGKDFGÑ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FGGD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FFDGDFG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DF,OÑDFKÑGFLÑFGFDFGL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GMMLDFGDFLLG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CIONESCVV´LFLDLL´LFL´VLD´LD´L´L´VL´FL´PDFLDF´PLLF´PLLLGHLF´PFÑ´Ñ,F´P´PL´ÑPNH´ÑPÑPÑK´ÑPGKÑPK´ÑPHL´ÑGLPF´P`PGFH`PHKGF`NBGGF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CIONESCVV´LFLDLL´LFL´VLD´LD´L´L´VL´FL´PDFLDF´PLLF´PLLLGHLF´PFÑ´Ñ,F´P´PL´ÑPNH´ÑPÑPÑK´ÑPGKÑPK´ÑPHL´ÑGLPF´P`PGFH`PHKGF`NBGGF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5843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LUSIONES Y OTROS 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51640" y="4653000"/>
            <a:ext cx="172692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834920" y="-720"/>
            <a:ext cx="5041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ª 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8-02-22T18:55:18Z</dcterms:modified>
  <cp:revision>4</cp:revision>
  <dc:subject/>
  <dc:title>Diapositiva 1</dc:title>
</cp:coreProperties>
</file>