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298440" y="0"/>
            <a:ext cx="978228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8080" y="0"/>
            <a:ext cx="964404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49400"/>
            <a:ext cx="10080720" cy="74120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88920"/>
            <a:ext cx="9901440" cy="7470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7840" y="88920"/>
            <a:ext cx="10080720" cy="74120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49400"/>
            <a:ext cx="10080720" cy="74120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7840" y="149400"/>
            <a:ext cx="9901080" cy="74120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98440" y="0"/>
            <a:ext cx="958536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49400"/>
            <a:ext cx="10080720" cy="7412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87280" y="5575320"/>
            <a:ext cx="300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FOTOGRAFIAS REALIZADAS CON UNA WEBCAM A PI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149400"/>
            <a:ext cx="10080720" cy="7143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9160" y="0"/>
            <a:ext cx="984240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7840" y="149400"/>
            <a:ext cx="9901080" cy="7351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7840" y="149400"/>
            <a:ext cx="9901080" cy="74120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7960" y="0"/>
            <a:ext cx="990144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9400" y="0"/>
            <a:ext cx="981216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8080" y="0"/>
            <a:ext cx="987264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ita-j m latorre</cp:lastModifiedBy>
  <dcterms:modified xsi:type="dcterms:W3CDTF">2007-08-20T14:38:51Z</dcterms:modified>
  <cp:revision>2</cp:revision>
  <dc:subject/>
  <dc:title>Diapositiva 1</dc:title>
</cp:coreProperties>
</file>