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EF8B-ED6F-4C01-A2FA-2E32C2AA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FB96-FE93-41A3-B56D-512A9B5E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0447-399F-44CF-9365-6F345865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7078-DC5E-4171-A13D-D93AFE38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CE1-2C8A-4805-A973-55C9EE5D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C4AF-D926-42C9-B994-C3472FC0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07AA-9244-42C6-96F2-2FA0F369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5AE0-86C3-4136-8951-94580089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7019-718C-47F6-AD83-C8A23E3D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733E-66D9-485C-9126-231F963F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1A89-0A3C-46F6-92BB-35079AAC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1ECA-3511-4C1C-8811-B5900E3B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8FA6-AB99-4269-A309-D42ED27DE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../../../1_ori&#241;on_pueblo.pps" TargetMode="External"/><Relationship Id="rId3" Type="http://schemas.openxmlformats.org/officeDocument/2006/relationships/hyperlink" Target="file:///../../../2_ori&#241;on_flora.pps" TargetMode="External"/><Relationship Id="rId4" Type="http://schemas.openxmlformats.org/officeDocument/2006/relationships/hyperlink" Target="file:///../../../3_ori&#241;on_fauna.pps" TargetMode="External"/><Relationship Id="rId5" Type="http://schemas.openxmlformats.org/officeDocument/2006/relationships/hyperlink" Target="file:///../../../4_ori&#241;on_playa-ria.pps" TargetMode="External"/><Relationship Id="rId6" Type="http://schemas.openxmlformats.org/officeDocument/2006/relationships/hyperlink" Target="file:///../../../5_ori&#241;on_despedida.pps" TargetMode="External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698920"/>
            <a:ext cx="403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ff"/>
                </a:solidFill>
                <a:latin typeface="Arial"/>
              </a:rPr>
              <a:t>Para bien o para mal, muy cerca del m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96360" y="638172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 M lator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24000" y="476280"/>
            <a:ext cx="4535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RIÑON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9933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7596360" y="638172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 M lator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476280"/>
            <a:ext cx="4535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RIÑON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9933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3000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789 0.01898 C 0.22778 0.01065 0.26129 0.00301 0.27153 -0.00023 C 0.30018 -0.00949 0.33368 -0.01643 0.36285 -0.02106 C 0.40261 -0.03796 0.44601 -0.02407 0.48611 -0.01551 C 0.48889 -0.01412 0.49184 -0.01296 0.49462 -0.0118 C 0.49618 -0.01111 0.49914 -0.00972 0.49914 -0.00949 C 0.50712 0.00093 0.51424 0.01111 0.51927 0.02454 C 0.52153 0.03727 0.52396 0.04815 0.52535 0.06134 C 0.52431 0.07523 0.52379 0.08935 0.5224 0.10324 C 0.52014 0.12523 0.51025 0.1382 0.49775 0.15093 C 0.48611 0.17963 0.46302 0.20093 0.44549 0.22361 C 0.44132 0.22917 0.43802 0.23681 0.43386 0.24259 C 0.42292 0.25857 0.41111 0.27338 0.39757 0.28496 C 0.38907 0.29213 0.38125 0.30347 0.37153 0.30787 C 0.36632 0.31482 0.3599 0.32176 0.35278 0.325 C 0.34809 0.33102 0.34445 0.33588 0.3382 0.33843 C 0.33004 0.34931 0.32379 0.35463 0.31511 0.3632 C 0.3 0.37801 0.3198 0.36042 0.30782 0.37477 C 0.29566 0.38959 0.28091 0.40185 0.26719 0.41297 C 0.25799 0.4206 0.25348 0.43426 0.24254 0.4375 C 0.23195 0.44746 0.24532 0.43611 0.2323 0.44352 C 0.21945 0.45093 0.20868 0.46366 0.19462 0.46829 C 0.18056 0.47986 0.16702 0.49375 0.15261 0.50463 C 0.15139 0.50579 0.14966 0.50602 0.14827 0.50648 C 0.14688 0.50718 0.14549 0.50764 0.1441 0.50857 C 0.12344 0.52408 0.1349 0.51945 0.12223 0.52361 C 0.11372 0.53079 0.10486 0.53472 0.09618 0.54097 C 0.08438 0.54954 0.075 0.56158 0.06129 0.56597 C 0.05591 0.57037 0.04896 0.57269 0.04393 0.57755 C 0.03525 0.58611 0.04427 0.58125 0.03525 0.58519 C 0.0217 0.60278 0.004 0.61065 -0.01111 0.62523 C -0.02882 0.64213 -0.02066 0.63843 -0.03298 0.64236 C -0.04027 0.64931 -0.0493 0.65949 -0.05764 0.66366 C -0.07152 0.68195 -0.08958 0.69792 -0.10833 0.70579 C -0.11666 0.71297 -0.12448 0.72153 -0.13298 0.72824 C -0.1342 0.72963 -0.13593 0.72963 -0.13732 0.73009 C -0.13993 0.73195 -0.14218 0.73403 -0.14461 0.73611 C -0.15173 0.74259 -0.16545 0.75741 -0.17361 0.76088 C -0.17604 0.76412 -0.17812 0.76783 -0.18073 0.7706 C -0.18298 0.77292 -0.18576 0.77384 -0.18802 0.77616 C -0.18923 0.77755 -0.18975 0.78056 -0.19097 0.78195 C -0.19826 0.79028 -0.21423 0.80602 -0.22291 0.8088 C -0.23264 0.81829 -0.23593 0.82315 -0.24739 0.82593 C -0.25364 0.8375 -0.24635 0.82685 -0.25607 0.83357 C -0.26059 0.83681 -0.26232 0.84259 -0.2677 0.84514 C -0.26961 0.84699 -0.27152 0.84908 -0.27343 0.8507 C -0.275 0.85185 -0.27673 0.85185 -0.27795 0.85301 C -0.28333 0.85741 -0.28732 0.86482 -0.29236 0.87014 C -0.29479 0.87292 -0.31076 0.8882 -0.31406 0.89121 C -0.32239 0.89884 -0.32257 0.90162 -0.33281 0.90648 C -0.33472 0.90834 -0.33646 0.91088 -0.33854 0.91204 C -0.34149 0.91412 -0.34739 0.91597 -0.34739 0.91621 C -0.35399 0.92523 -0.36111 0.93102 -0.37048 0.93496 C -0.38038 0.94908 -0.39479 0.95486 -0.40538 0.96759 C -0.41336 0.97709 -0.42066 0.98866 -0.42968 0.9963 C -0.43975 1.00509 -0.43472 0.99931 -0.446 1.00787 C -0.45121 1.01227 -0.4559 1.01852 -0.46198 1.02084 C -0.46805 1.02384 -0.47413 1.02732 -0.47916 1.03241 C -0.4809 1.03403 -0.48316 1.03542 -0.48368 1.0382 C -0.4842 1.03959 -0.48159 1.0382 -0.48073 1.0382 E">
                                      <p:cBhvr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372 0.19607 C 0.12223 0.18889 0.1507 0.18241 0.15938 0.17963 C 0.18386 0.17153 0.21233 0.16551 0.23716 0.16158 C 0.27101 0.14699 0.30799 0.15903 0.34219 0.16644 C 0.34462 0.16759 0.34705 0.16852 0.34948 0.16968 C 0.3507 0.17014 0.3533 0.1713 0.3533 0.17153 C 0.36007 0.18056 0.36615 0.18935 0.37049 0.20093 C 0.3724 0.21181 0.37448 0.22107 0.37552 0.23241 C 0.37466 0.24445 0.37431 0.25648 0.37309 0.26852 C 0.37118 0.2875 0.36268 0.29861 0.35209 0.30972 C 0.34219 0.33449 0.32257 0.35278 0.30764 0.37222 C 0.304 0.37709 0.30122 0.38357 0.29775 0.38866 C 0.28837 0.40232 0.2783 0.41505 0.26684 0.425 C 0.25955 0.43125 0.25295 0.44097 0.24462 0.44468 C 0.24011 0.4507 0.23473 0.45672 0.22865 0.45949 C 0.22466 0.46459 0.22153 0.46875 0.21615 0.47107 C 0.2092 0.48033 0.204 0.48496 0.19653 0.49236 C 0.18368 0.50509 0.20052 0.48982 0.19028 0.50232 C 0.18004 0.51505 0.16736 0.52547 0.15573 0.53519 C 0.14792 0.54167 0.1441 0.55347 0.13473 0.55648 C 0.1257 0.56505 0.13716 0.55509 0.12605 0.56158 C 0.11511 0.56806 0.10591 0.57894 0.09393 0.58287 C 0.08195 0.59283 0.07049 0.60486 0.05816 0.61412 C 0.05712 0.61505 0.05573 0.61528 0.05452 0.61574 C 0.0533 0.61644 0.05209 0.61667 0.05087 0.61759 C 0.03334 0.63079 0.04306 0.62685 0.0323 0.63056 C 0.025 0.63658 0.01754 0.64005 0.01007 0.64537 C -3.33333000000075E-006 0.65278 -0.00798 0.6632 -0.01961 0.6669 C -0.02413 0.6706 -0.03003 0.67269 -0.03437 0.67685 C -0.04184 0.68426 -0.03402 0.68009 -0.04184 0.68334 C -0.0533 0.69861 -0.0684 0.70533 -0.08125 0.71783 C -0.09635 0.73241 -0.08941 0.72917 -0.09982 0.73264 C -0.10607 0.73866 -0.11371 0.74722 -0.12083 0.75093 C -0.13264 0.76667 -0.14809 0.78033 -0.16406 0.78704 C -0.17118 0.79329 -0.17777 0.8007 -0.18507 0.80672 C -0.18611 0.80764 -0.1875 0.80764 -0.18871 0.80834 C -0.19097 0.80972 -0.19288 0.81158 -0.19496 0.81343 C -0.20104 0.81898 -0.21267 0.83172 -0.21961 0.83472 C -0.2217 0.8375 -0.22343 0.84074 -0.22569 0.84306 C -0.2276 0.84514 -0.23003 0.84584 -0.23194 0.84792 C -0.23298 0.84908 -0.23333 0.85162 -0.23437 0.85278 C -0.24062 0.85996 -0.25416 0.87361 -0.26163 0.87593 C -0.26996 0.88403 -0.27274 0.8882 -0.28246 0.89074 C -0.28784 0.9007 -0.28159 0.89144 -0.28993 0.89722 C -0.29375 0.9 -0.29514 0.90509 -0.29982 0.90718 C -0.30139 0.9088 -0.30295 0.91065 -0.30468 0.91204 C -0.3059 0.91297 -0.30729 0.91297 -0.3085 0.91389 C -0.31284 0.91783 -0.31649 0.92408 -0.32066 0.92871 C -0.32291 0.93102 -0.33646 0.94422 -0.33923 0.94676 C -0.34652 0.95347 -0.34652 0.95579 -0.35538 0.95996 C -0.35677 0.96158 -0.3585 0.96366 -0.36024 0.96482 C -0.36267 0.96644 -0.36771 0.96806 -0.36771 0.96829 C -0.37326 0.97616 -0.37951 0.98102 -0.3875 0.98449 C -0.39583 0.99653 -0.40816 1.00162 -0.41718 1.0125 C -0.42396 1.0206 -0.43021 1.03056 -0.43784 1.03727 C -0.44635 1.04468 -0.44218 1.03982 -0.45173 1.04722 C -0.45625 1.05093 -0.46024 1.05625 -0.46527 1.05857 C -0.47048 1.06088 -0.47569 1.06412 -0.48003 1.06852 C -0.48142 1.06991 -0.48333 1.07107 -0.48385 1.07338 C -0.4842 1.07454 -0.48211 1.07338 -0.48125 1.07338 E">
                                      <p:cBhvr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10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75000" y="17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81221E-006 L 0.06927 -0.07655 C 0.08385 -0.09297 0.10556 -0.1013 0.1283 -0.1013 C 0.15451 -0.1013 0.17535 -0.09297 0.18976 -0.07655 L 0.2599 2.81221E-006 E">
                                      <p:cBhvr>
                                        <p:cTn id="33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96840"/>
            <a:ext cx="9597960" cy="7197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400" y="-96840"/>
            <a:ext cx="9597960" cy="7197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4400" y="-100080"/>
            <a:ext cx="9597960" cy="7197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-36360" y="-96840"/>
            <a:ext cx="9597960" cy="7197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-36360" y="-100080"/>
            <a:ext cx="9597960" cy="719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58920" y="331920"/>
            <a:ext cx="5005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spedida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9933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18000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372 0.19607 C 0.12223 0.18889 0.1507 0.18241 0.15938 0.17963 C 0.18386 0.17153 0.21233 0.16551 0.23716 0.16158 C 0.27101 0.14699 0.30799 0.15903 0.34219 0.16644 C 0.34462 0.16759 0.34705 0.16852 0.34948 0.16968 C 0.3507 0.17014 0.3533 0.1713 0.3533 0.17153 C 0.36007 0.18056 0.36615 0.18935 0.37049 0.20093 C 0.3724 0.21181 0.37448 0.22107 0.37552 0.23241 C 0.37466 0.24445 0.37431 0.25648 0.37309 0.26852 C 0.37118 0.2875 0.36268 0.29861 0.35209 0.30972 C 0.34219 0.33449 0.32257 0.35278 0.30764 0.37222 C 0.304 0.37709 0.30122 0.38357 0.29775 0.38866 C 0.28837 0.40232 0.2783 0.41505 0.26684 0.425 C 0.25955 0.43125 0.25295 0.44097 0.24462 0.44468 C 0.24011 0.4507 0.23473 0.45672 0.22865 0.45949 C 0.22466 0.46459 0.22153 0.46875 0.21615 0.47107 C 0.2092 0.48033 0.204 0.48496 0.19653 0.49236 C 0.18368 0.50509 0.20052 0.48982 0.19028 0.50232 C 0.18004 0.51505 0.16736 0.52547 0.15573 0.53519 C 0.14792 0.54167 0.1441 0.55347 0.13473 0.55648 C 0.1257 0.56505 0.13716 0.55509 0.12605 0.56158 C 0.11511 0.56806 0.10591 0.57894 0.09393 0.58287 C 0.08195 0.59283 0.07049 0.60486 0.05816 0.61412 C 0.05712 0.61505 0.05573 0.61528 0.05452 0.61574 C 0.0533 0.61644 0.05209 0.61667 0.05087 0.61759 C 0.03334 0.63079 0.04306 0.62685 0.0323 0.63056 C 0.025 0.63658 0.01754 0.64005 0.01007 0.64537 C -3.33333000000075E-006 0.65278 -0.00798 0.6632 -0.01961 0.6669 C -0.02413 0.6706 -0.03003 0.67269 -0.03437 0.67685 C -0.04184 0.68426 -0.03402 0.68009 -0.04184 0.68334 C -0.0533 0.69861 -0.0684 0.70533 -0.08125 0.71783 C -0.09635 0.73241 -0.08941 0.72917 -0.09982 0.73264 C -0.10607 0.73866 -0.11371 0.74722 -0.12083 0.75093 C -0.13264 0.76667 -0.14809 0.78033 -0.16406 0.78704 C -0.17118 0.79329 -0.17777 0.8007 -0.18507 0.80672 C -0.18611 0.80764 -0.1875 0.80764 -0.18871 0.80834 C -0.19097 0.80972 -0.19288 0.81158 -0.19496 0.81343 C -0.20104 0.81898 -0.21267 0.83172 -0.21961 0.83472 C -0.2217 0.8375 -0.22343 0.84074 -0.22569 0.84306 C -0.2276 0.84514 -0.23003 0.84584 -0.23194 0.84792 C -0.23298 0.84908 -0.23333 0.85162 -0.23437 0.85278 C -0.24062 0.85996 -0.25416 0.87361 -0.26163 0.87593 C -0.26996 0.88403 -0.27274 0.8882 -0.28246 0.89074 C -0.28784 0.9007 -0.28159 0.89144 -0.28993 0.89722 C -0.29375 0.9 -0.29514 0.90509 -0.29982 0.90718 C -0.30139 0.9088 -0.30295 0.91065 -0.30468 0.91204 C -0.3059 0.91297 -0.30729 0.91297 -0.3085 0.91389 C -0.31284 0.91783 -0.31649 0.92408 -0.32066 0.92871 C -0.32291 0.93102 -0.33646 0.94422 -0.33923 0.94676 C -0.34652 0.95347 -0.34652 0.95579 -0.35538 0.95996 C -0.35677 0.96158 -0.3585 0.96366 -0.36024 0.96482 C -0.36267 0.96644 -0.36771 0.96806 -0.36771 0.96829 C -0.37326 0.97616 -0.37951 0.98102 -0.3875 0.98449 C -0.39583 0.99653 -0.40816 1.00162 -0.41718 1.0125 C -0.42396 1.0206 -0.43021 1.03056 -0.43784 1.03727 C -0.44635 1.04468 -0.44218 1.03982 -0.45173 1.04722 C -0.45625 1.05093 -0.46024 1.05625 -0.46527 1.05857 C -0.47048 1.06088 -0.47569 1.06412 -0.48003 1.06852 C -0.48142 1.06991 -0.48333 1.07107 -0.48385 1.07338 C -0.4842 1.07454 -0.48211 1.07338 -0.48125 1.07338 E">
                                      <p:cBhvr>
                                        <p:cTn id="39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597960" cy="7197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9597960" cy="7197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-36360" y="-27000"/>
            <a:ext cx="9597960" cy="7197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-36360" y="47520"/>
            <a:ext cx="9597960" cy="7197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-36360" y="-27000"/>
            <a:ext cx="9597960" cy="7197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-181080" y="-1467000"/>
            <a:ext cx="15049440" cy="11287440"/>
          </a:xfrm>
          <a:prstGeom prst="rect">
            <a:avLst/>
          </a:prstGeom>
          <a:ln w="0">
            <a:noFill/>
          </a:ln>
        </p:spPr>
      </p:pic>
    </p:spTree>
  </p:cSld>
  <p:transition advTm="18000"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0 AÑOS MIRANDO AL 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EMPRE LO MIS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ERO NUNCA IG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8000" y="-171360"/>
            <a:ext cx="5399280" cy="7197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908000" y="-100080"/>
            <a:ext cx="5399280" cy="7197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909800" y="0"/>
            <a:ext cx="5324400" cy="7097760"/>
          </a:xfrm>
          <a:prstGeom prst="rect">
            <a:avLst/>
          </a:prstGeom>
          <a:ln w="0">
            <a:noFill/>
          </a:ln>
        </p:spPr>
      </p:pic>
    </p:spTree>
  </p:cSld>
  <p:transition advTm="40000"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100"/>
                            </p:stCondLst>
                            <p:childTnLst>
                              <p:par>
                                <p:cTn id="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1900"/>
                            </p:stCondLst>
                            <p:childTnLst>
                              <p:par>
                                <p:cTn id="1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8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8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8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8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-3636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-3636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 advTm="24000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428760" y="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46836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-468360" y="-270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-468360" y="144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 advTm="30000">
    <p:fade thruBlk="true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364000" y="260280"/>
            <a:ext cx="2087640" cy="619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231"/>
                <a:gd name="adj2" fmla="val 3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9933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</a:t>
            </a:r>
            <a:endParaRPr b="0" lang="en-US" sz="1800" spc="1" strike="noStrike">
              <a:ln w="12600">
                <a:solidFill>
                  <a:srgbClr val="660066"/>
                </a:solidFill>
                <a:miter/>
              </a:ln>
              <a:solidFill>
                <a:srgbClr val="9933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9933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</a:t>
            </a:r>
            <a:endParaRPr b="0" lang="en-US" sz="1800" spc="1" strike="noStrike">
              <a:ln w="12600">
                <a:solidFill>
                  <a:srgbClr val="660066"/>
                </a:solidFill>
                <a:miter/>
              </a:ln>
              <a:solidFill>
                <a:srgbClr val="9933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9933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</a:t>
            </a:r>
            <a:endParaRPr b="0" lang="en-US" sz="1800" spc="1" strike="noStrike">
              <a:ln w="12600">
                <a:solidFill>
                  <a:srgbClr val="660066"/>
                </a:solidFill>
                <a:miter/>
              </a:ln>
              <a:solidFill>
                <a:srgbClr val="9933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9933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Ñ</a:t>
            </a:r>
            <a:endParaRPr b="0" lang="en-US" sz="1800" spc="1" strike="noStrike">
              <a:ln w="12600">
                <a:solidFill>
                  <a:srgbClr val="660066"/>
                </a:solidFill>
                <a:miter/>
              </a:ln>
              <a:solidFill>
                <a:srgbClr val="9933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9933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</a:t>
            </a:r>
            <a:endParaRPr b="0" lang="en-US" sz="1800" spc="1" strike="noStrike">
              <a:ln w="12600">
                <a:solidFill>
                  <a:srgbClr val="660066"/>
                </a:solidFill>
                <a:miter/>
              </a:ln>
              <a:solidFill>
                <a:srgbClr val="9933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9933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</a:t>
            </a:r>
            <a:endParaRPr b="0" lang="en-US" sz="1800" spc="1" strike="noStrike">
              <a:ln w="12600">
                <a:solidFill>
                  <a:srgbClr val="660066"/>
                </a:solidFill>
                <a:miter/>
              </a:ln>
              <a:solidFill>
                <a:srgbClr val="9933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/>
          <p:nvPr/>
        </p:nvSpPr>
        <p:spPr>
          <a:xfrm>
            <a:off x="449280" y="6308640"/>
            <a:ext cx="46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EANIC Vangelis - 07 Aquatic 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5480" y="1079640"/>
            <a:ext cx="4078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Arial"/>
              </a:rPr>
              <a:t>VOLUM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ueb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l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au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ía y play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Desped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endshow"/>
          </p:cNvPr>
          <p:cNvSpPr/>
          <p:nvPr/>
        </p:nvSpPr>
        <p:spPr>
          <a:xfrm>
            <a:off x="1634760" y="5300640"/>
            <a:ext cx="3277440" cy="398880"/>
          </a:xfrm>
          <a:prstGeom prst="rect">
            <a:avLst/>
          </a:prstGeom>
          <a:solidFill>
            <a:srgbClr val="9933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lsa aquí para Salir&gt;&gt;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2:58:37Z</dcterms:created>
  <dc:creator>aita-j m latorre</dc:creator>
  <dc:description/>
  <dc:language>en-US</dc:language>
  <cp:lastModifiedBy>aita-j m latorre</cp:lastModifiedBy>
  <dcterms:modified xsi:type="dcterms:W3CDTF">2007-06-18T10:30:01Z</dcterms:modified>
  <cp:revision>55</cp:revision>
  <dc:subject/>
  <dc:title>Diapositiva 1</dc:title>
</cp:coreProperties>
</file>